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3714-2362-4A2A-828B-2C42F474451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720720"/>
            <a:ext cx="4797360" cy="359892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the development of a prediction statement. If the hypothesis is the foundation of an experiment, then the prediction statement is the blue pr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diction statement is ALWAYS in the form of an If… then… statement. A well written prediction statement will give you the ability to identify all the important aspects of an experiment that are necessary to answer your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If</a:t>
            </a:r>
            <a:r>
              <a:rPr b="0" lang="en-US" sz="1200" spc="-1" strike="noStrike">
                <a:solidFill>
                  <a:srgbClr val="000000"/>
                </a:solidFill>
                <a:latin typeface="Calibri"/>
              </a:rPr>
              <a:t> high temperatures increase the amount of water consumption, </a:t>
            </a:r>
            <a:r>
              <a:rPr b="0" lang="en-US" sz="1200" spc="-1" strike="noStrike" u="sng">
                <a:solidFill>
                  <a:srgbClr val="000000"/>
                </a:solidFill>
                <a:uFillTx/>
                <a:latin typeface="Calibri"/>
              </a:rPr>
              <a:t>then</a:t>
            </a:r>
            <a:r>
              <a:rPr b="0" lang="en-US" sz="1200" spc="-1" strike="noStrike">
                <a:solidFill>
                  <a:srgbClr val="000000"/>
                </a:solidFill>
                <a:latin typeface="Calibri"/>
              </a:rPr>
              <a:t> plants exposed higher temperatures will use mor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ay seem a bit redundant next to the hypothesis, but once we look at the important elements of a valid experiment, you will begin to see the value in this statemen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2B20-D428-4F77-8DD6-8D5280E565D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720720"/>
            <a:ext cx="4797360" cy="359892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experiment is to study phenomena under known conditions, controlling every aspect of an environment in order to methodically change certain aspects. Let’s look at some important terms used in experimental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variable: The depend. var. is the aspect of your experiment that you are measuring. The easiest way to identify this is by asking yourself what type of data you will be collecting. Let’s go back to our temperature and water usage question. Can you identify what you will be measuring from the prediction statement? </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8940-ABD0-454C-A4DE-46AB99D514C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water a plant uses)</a:t>
            </a: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D5CB-C63B-4AF2-88D9-521AC8D3336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720720"/>
            <a:ext cx="4797360" cy="359892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variable: Also sometimes referred to as the experimental variable, the indep. var. is the one and only thing in an experiment that changes from group to group. It is the part of the experiment that you manipulate, based on what type of information you are trying to discover. Go back to our prediction statement again. Can you identify the ind. var.?  </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3019A-F945-4209-A005-53E7500434F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8920" y="720720"/>
            <a:ext cx="4797360" cy="359892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s that the plant is expos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394C-C246-47AF-A6BC-1191B3CE3C8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8920" y="720720"/>
            <a:ext cx="4797360" cy="359892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ntrolled variables. This is EVERYTHING else. Controls give the experiment validity, ensuring the only differences between treatment and control groups is the independen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looking at the effects of temperature on water usage, the only thing we can vary between our groups is the temperature. Everything else, from soil quality, nutrients provided, air quality, type of plant tested, method of data collection, everything else beside the air temperature must remain consistent and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had two plants, one exposed to 70 degree air temps and the other exposed to 40 degree air temps, but one was also given fertilizer and the other was not, how can we be sure that our results are caused by air temperature or soil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what types of components we have to consider while designing an experiment, can you see why a proper prediction statement is so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BDA0-2B46-48B8-A418-93397C6F423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two type of groups found in an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group. This is the group that can be considered the “Norm”, the standard that you comp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ant to look at two extremes in air temperature, an appropriate control could be the known optimum temperature at which the plant is known to grow b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ch for example is a cool weather plant and grows best at temperatures between 60 and 70 degrees F, whereas peppers are tropical plants and grow best at temperatures closer to 70 or 80 degrees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plant you choose to test your hypothesis on might influence what you will consider your control temperature. </a:t>
            </a: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66ACD-DCA8-4E2E-A98C-E97EF8858A2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8920" y="720720"/>
            <a:ext cx="4797360" cy="359892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group(s). These groups (most often there are more than one experimental group) are the groups in which you manipulate the independent variable. Look back to our prediction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etermine the types of experimental groups you would need if we were going to use spinach as our test subject? (A series of groups exposed to an increasingly higher temperature would best fit our prediction statement)</a:t>
            </a: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B227-CD34-4347-AE02-EB23833D43D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8920" y="720720"/>
            <a:ext cx="4797360" cy="359892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ucial step in the scientific process is the analyzing and reporting of your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mean nothing without diligent recording of methods and observations in order to make them repeatable and verifiable. If you can’t repeat the experiments, you can’t draw any valid conclu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mportant to note that just because you determined your hypothesis is not correct, doesn’t mean your experiment was invalid. Discovering that you are wrong is just as informative as discovering that you are right.</a:t>
            </a: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FD1D-95DB-468F-96EF-9BB17B7F8A9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8920" y="720720"/>
            <a:ext cx="4797360" cy="359892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 robustness of an experiment, sometime you can have a use what are referred to as positive and negative controls, to help eliminate the possibility of false positives or neg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control is a type of control group within your experiment that you know will give you a negative result, i.e. a definitive “No”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control is a type of control group that are exposed to conditions that you know will result in a definitive “Yes”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egative and positive controls are not appropriate based on the questions you are asking, so we will revisit these controls with an example problem at the end of this le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r positive and negative controls are is completely dependent upon how you phrase your question. You will see what I mean by this in the example problem at the end of this lecture.</a:t>
            </a: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CE4F-22E9-42CE-AC8B-2E8566F2387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720720"/>
            <a:ext cx="4797360" cy="359892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organiz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can be studied at different levels, from the smallest of particles known as atoms to the study of the biosphere as a single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s are the smallest unit of life that can exist as a separate living unit. At the other end of the spectrum, the Gaia Hypothesis is an idea that the planet can be considered a living entity because it has some of the characteristics of living things, such as the ability to respond to changes and maintain homeostasis (Weather patterns that help regulate atmospheric and surface temperatures of the planet, for example). It is not a widely accepted idea, but worthy of mention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 101 will focus on the top third or so of these levels: The ecology portion of the term includes populations, communities, and ecosystems. The end of the term will be spent looking at biological systems at the species level where we will explore the different classifications of living organisms: Plants, animals, fungi, bacteria, and protists. </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725E-5305-4F64-A33A-C84EDA4AE49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8920" y="720720"/>
            <a:ext cx="4797360" cy="359892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ypothesis: Yes, it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S: If the new drug is more effective, then patients who take the drug will have more “normal” BP readings than those that take another dru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p. Var. = blood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ndep. Var. = drug adminis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Positive control- a control group that you already know will give you a positive result – a well established drug already shown to reduce B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Negative control – a control group that you already know will give you a negative result – a placeb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33E5-871D-4AC4-89EE-84DB72381C4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8920" y="720720"/>
            <a:ext cx="4797360" cy="359892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control is an easy one. We already know that the current industry standard is effective at lower blood pressure, so that is our definitive “Yes”. The data collected from this group will demonstrate to us what “Normal Blood Pressure” look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aid your negative control would be a group of individuals that do not receive any medication at all, think again. Remember what we learned about controlled vari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negative control group is not taking a pill, but the rest of the test subjects are, how will we know our data is the result of the effects of the drug or the action of taking a pill every day? </a:t>
            </a: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57B2-4408-460E-A450-F838FA0CE69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8920" y="720720"/>
            <a:ext cx="4797360" cy="359892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reporting of some hypothetical data that could result from an experiment. What conclusions can be dra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es on proper data reporting and grap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aphing your results the essential components include a chart title, unit labels on each axis, and identification of all data s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is to create a graph so that your audience doesn’t have any previous knowledge on the data you are presenting. If you don’t include titles and labels, how could your audience know you aren’t reporting something like number of boogers picked instead of blood pressure readings?</a:t>
            </a: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A7027-13F1-4E6A-BED7-9DD0191ACC8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because you have shown that your new drug is not more effective, that doesn’t mean the drug is a failure necessar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shown that is just as effective, but what if the industry standard has a laundry list of side effects that were not reported by test subjects taking the new drug? New questions! More experimentation!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7EEE7-97BC-4C4D-BC39-B48DA489D08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C1822-FFCC-4401-8BAE-5FFE1929C29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break down the word ecology into its Greek roots, you can glean the definition of the word, which is the study of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oes ecology encompass the organisms that live on the planet, but it explores the environment these organisms live in and the relationship they have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term you should be able to answer questions such 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plant a plan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at makes it different from a mushroo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do plants and fungi interact and depend upon each other in a given habita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perhaps most importantly, how have humans impacted other life that we share the planet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22E1-D401-4965-BA8B-FA1514F71AC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5" name="PlaceHolder 1"/>
          <p:cNvSpPr>
            <a:spLocks noGrp="1"/>
          </p:cNvSpPr>
          <p:nvPr>
            <p:ph type="sldImg"/>
          </p:nvPr>
        </p:nvSpPr>
        <p:spPr>
          <a:xfrm>
            <a:off x="1258920" y="720720"/>
            <a:ext cx="4797360" cy="359892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may be asking what is the point? Why do we want to study lif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broad level, the study of biology is driven by humanity’s natural curiosity. We ask questions, and we constantly strive to explain the things we experience and see around 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w can we know what kind of an impact building a dam across a river might have if we do not understand the needs of the organisms that live in that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85488-BEE1-4E11-B0DB-1969E934BC98}"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the foundation of all scientific inquiry, it is how we “do” biology. When one thinks of science and experiments, the image that often comes to mind is that of a mad scientist with a white lab coat, and pocket protector, crazy eyebrows, maniacally pouring liquid for test tube to test tube.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B77EF-F72C-426C-9A74-B218B92E7EBE}"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51" name="PlaceHolder 1"/>
          <p:cNvSpPr>
            <a:spLocks noGrp="1"/>
          </p:cNvSpPr>
          <p:nvPr>
            <p:ph type="sldImg"/>
          </p:nvPr>
        </p:nvSpPr>
        <p:spPr>
          <a:xfrm>
            <a:off x="1258920" y="720720"/>
            <a:ext cx="4797360" cy="359892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particularly in the realm of biology and ecology, just as much science happens outside of a laboratory setting, in the natural worl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a process that allows us to find the explanations our inquisitive nature seeks to find. What you may not realize is that you already use the scientific method every single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and every biology textbook that you will ever see will draw upon the quintessential example of discovering your car won’t start to outline the steps of the scientific method. I will spare you the regurgitation, and let you review that example in your assigned reading, but let’s go over the steps of the sci. met., as well as the fundamentals of experimental design.</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DDCAD-2919-4742-955E-9E7B0E42758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ions and questions are relatively self explanatory. You notice something about the world around you and you want to know more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question formulated, you need to develop a hypothesis. A hypothesis is nothing more than what you think the answer to your question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at a hypothesis is a simple, one sentence statement that answers your question.  This will be the foundation that you build your experiment upon. If your hypothesis so too complex, it becomes too difficult to design a valid experiment to find the answer to your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question posed previous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es increased air temperature increase the rate of water us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priate hypoth. could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think the higher the air temperature, the more water would be used by the 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traight forward, answers the question. Nothing more, nothing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0214-5B67-4C4F-B188-5763D2FE688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ECA1-AE96-451E-906C-B12D9F747EF4}"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a hypothesis is nothing more than an educated guess as to what the answer to a specific question is, a theory is a well tested, verified hypothesis; a generally well accepted explanation based on lots of research that has yet to be dispro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a theory can never be proven, or taken as fact, but it can always be disproven. There is always the possibility that there is that one little piece of information, that one discovery that has yet to happen that could overturn any theory, no matter how well establ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nce a time that it was generally accepted the earth was the center of the universe. For centuries, as a matter of fact. But the collective research and ideas of men such as Copernicus, Galileo and Sir Isaac Newton proved that theory to be entirely incorrect. But it took a very, very long time for the idea of heliocentricism (The idea that the earth revolves around the sun) to take hold. This idea was first suggested around 300 BC, but not widely accepted until the mid 1500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2BF7F-293D-4DA4-B820-7BE2CDFE7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8CB01-9F3E-4ACC-93F0-6141AB25A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05F58-21E8-4F7E-A2B0-F4F55DA73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0DDB3-E890-49FA-9D03-9B3C3F57F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9AC6E-FE38-4AEE-B0F7-D03870DA6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57D41-04E4-4132-9095-A766D1386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EDF46-E250-42F7-9595-DC3B3A076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C9A21-5767-4F46-B8C3-B4B41A670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81368-ED0B-49AF-B3C5-0A550E78C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829B9-3C55-4E44-AF86-0815FD304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AB9DC-BEC7-45B8-B8AF-BD1A67A69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D4212-DDC2-40A7-9355-7DB58627F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7A9A-9FD3-4A22-9A1E-5E29C1A6E92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ientific Inquiry</a:t>
            </a:r>
            <a:br>
              <a:rPr sz="4000"/>
            </a:br>
            <a:r>
              <a:rPr b="0" lang="en-US" sz="4000" spc="-1" strike="noStrike">
                <a:solidFill>
                  <a:srgbClr val="000000"/>
                </a:solidFill>
                <a:latin typeface="Calibri"/>
              </a:rPr>
              <a:t>and </a:t>
            </a:r>
            <a:br>
              <a:rPr sz="4000"/>
            </a:br>
            <a:r>
              <a:rPr b="0" lang="en-US" sz="4000" spc="-1" strike="noStrike">
                <a:solidFill>
                  <a:srgbClr val="000000"/>
                </a:solidFill>
                <a:latin typeface="Calibri"/>
              </a:rPr>
              <a:t>Experimental Desig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82" name=""/>
          <p:cNvSpPr txBox="1"/>
          <p:nvPr/>
        </p:nvSpPr>
        <p:spPr>
          <a:xfrm>
            <a:off x="3276720" y="1828440"/>
            <a:ext cx="5867280" cy="3809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Placeholder 2" descr="Figure_01_01_05.jpg"/>
          <p:cNvPicPr/>
          <p:nvPr/>
        </p:nvPicPr>
        <p:blipFill>
          <a:blip r:embed="rId1"/>
          <a:srcRect l="11622" t="25575" r="36578" b="51876"/>
          <a:stretch/>
        </p:blipFill>
        <p:spPr>
          <a:xfrm>
            <a:off x="228600" y="1676520"/>
            <a:ext cx="29829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86"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0"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Oval 6"/>
          <p:cNvSpPr/>
          <p:nvPr/>
        </p:nvSpPr>
        <p:spPr>
          <a:xfrm>
            <a:off x="1676520" y="4572000"/>
            <a:ext cx="556236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5" name=""/>
          <p:cNvSpPr txBox="1"/>
          <p:nvPr/>
        </p:nvSpPr>
        <p:spPr>
          <a:xfrm>
            <a:off x="457200" y="2209320"/>
            <a:ext cx="8229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9" name=""/>
          <p:cNvSpPr txBox="1"/>
          <p:nvPr/>
        </p:nvSpPr>
        <p:spPr>
          <a:xfrm>
            <a:off x="456840" y="2209320"/>
            <a:ext cx="84582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Oval 6"/>
          <p:cNvSpPr/>
          <p:nvPr/>
        </p:nvSpPr>
        <p:spPr>
          <a:xfrm>
            <a:off x="2819520" y="4038480"/>
            <a:ext cx="2438280" cy="60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104" name=""/>
          <p:cNvSpPr txBox="1"/>
          <p:nvPr/>
        </p:nvSpPr>
        <p:spPr>
          <a:xfrm>
            <a:off x="456840" y="2209320"/>
            <a:ext cx="7467480" cy="14065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led Variable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THING EL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is not mentioned in your prediction statement, it must remain constant throughout the experi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08" name=""/>
          <p:cNvSpPr txBox="1"/>
          <p:nvPr/>
        </p:nvSpPr>
        <p:spPr>
          <a:xfrm>
            <a:off x="456840" y="2209320"/>
            <a:ext cx="746748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 Group</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tandard used to compare your data agains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ormal” conditions with no manipulation of variabl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
          <p:cNvSpPr txBox="1"/>
          <p:nvPr/>
        </p:nvSpPr>
        <p:spPr>
          <a:xfrm>
            <a:off x="2057040" y="4419720"/>
            <a:ext cx="4267080" cy="167616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ormal” would be defined by the test subjects you choose</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6" descr="real-spinach-73911.jpg"/>
          <p:cNvPicPr/>
          <p:nvPr/>
        </p:nvPicPr>
        <p:blipFill>
          <a:blip r:embed="rId1"/>
          <a:stretch/>
        </p:blipFill>
        <p:spPr>
          <a:xfrm>
            <a:off x="533520" y="4191120"/>
            <a:ext cx="1504800" cy="2006640"/>
          </a:xfrm>
          <a:prstGeom prst="rect">
            <a:avLst/>
          </a:prstGeom>
          <a:ln w="0">
            <a:noFill/>
          </a:ln>
        </p:spPr>
      </p:pic>
      <p:pic>
        <p:nvPicPr>
          <p:cNvPr id="111" name="Picture 7" descr="pepper-15496.jpg"/>
          <p:cNvPicPr/>
          <p:nvPr/>
        </p:nvPicPr>
        <p:blipFill>
          <a:blip r:embed="rId2"/>
          <a:stretch/>
        </p:blipFill>
        <p:spPr>
          <a:xfrm>
            <a:off x="6477120" y="4419720"/>
            <a:ext cx="2286000" cy="1523880"/>
          </a:xfrm>
          <a:prstGeom prst="rect">
            <a:avLst/>
          </a:prstGeom>
          <a:ln w="0">
            <a:noFill/>
          </a:ln>
        </p:spPr>
      </p:pic>
      <p:sp>
        <p:nvSpPr>
          <p:cNvPr id="112"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1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15" name=""/>
          <p:cNvSpPr txBox="1"/>
          <p:nvPr/>
        </p:nvSpPr>
        <p:spPr>
          <a:xfrm>
            <a:off x="456840" y="2209680"/>
            <a:ext cx="7467480" cy="19051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l Group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where the independent variable is manipulated to study the experiment’s purpo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d to control group to determine if there is a difference between “Normal” and the experiment condi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
          <p:cNvSpPr txBox="1"/>
          <p:nvPr/>
        </p:nvSpPr>
        <p:spPr>
          <a:xfrm>
            <a:off x="2057040" y="4419720"/>
            <a:ext cx="4267080" cy="1676160"/>
          </a:xfrm>
          <a:prstGeom prst="rect">
            <a:avLst/>
          </a:prstGeom>
          <a:noFill/>
          <a:ln w="0">
            <a:noFill/>
          </a:ln>
        </p:spPr>
        <p:txBody>
          <a:bodyPr anchor="t">
            <a:normAutofit fontScale="93000"/>
          </a:bodyPr>
          <a:p>
            <a:pPr marL="318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erimental conditions can be determined once “Normal” has been determined. </a:t>
            </a:r>
            <a:endParaRPr b="0" lang="en-US" sz="3000" spc="-1" strike="noStrike">
              <a:solidFill>
                <a:srgbClr val="000000"/>
              </a:solidFill>
              <a:latin typeface="Calibri"/>
            </a:endParaRPr>
          </a:p>
          <a:p>
            <a:pPr marL="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7" name="Picture 6" descr="real-spinach-73911.jpg"/>
          <p:cNvPicPr/>
          <p:nvPr/>
        </p:nvPicPr>
        <p:blipFill>
          <a:blip r:embed="rId1"/>
          <a:stretch/>
        </p:blipFill>
        <p:spPr>
          <a:xfrm>
            <a:off x="533520" y="4191120"/>
            <a:ext cx="1504800" cy="2006640"/>
          </a:xfrm>
          <a:prstGeom prst="rect">
            <a:avLst/>
          </a:prstGeom>
          <a:ln w="0">
            <a:noFill/>
          </a:ln>
        </p:spPr>
      </p:pic>
      <p:pic>
        <p:nvPicPr>
          <p:cNvPr id="118" name="Picture 7" descr="pepper-15496.jpg"/>
          <p:cNvPicPr/>
          <p:nvPr/>
        </p:nvPicPr>
        <p:blipFill>
          <a:blip r:embed="rId2"/>
          <a:stretch/>
        </p:blipFill>
        <p:spPr>
          <a:xfrm>
            <a:off x="6477120" y="4419720"/>
            <a:ext cx="2286000" cy="1523880"/>
          </a:xfrm>
          <a:prstGeom prst="rect">
            <a:avLst/>
          </a:prstGeom>
          <a:ln w="0">
            <a:noFill/>
          </a:ln>
        </p:spPr>
      </p:pic>
      <p:sp>
        <p:nvSpPr>
          <p:cNvPr id="119"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21" name=""/>
          <p:cNvSpPr txBox="1"/>
          <p:nvPr/>
        </p:nvSpPr>
        <p:spPr>
          <a:xfrm>
            <a:off x="3276720" y="2437920"/>
            <a:ext cx="5867280" cy="266724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s mean nothing without diligent recording of methods and observations in order to make them repeatable and verifiable</a:t>
            </a:r>
            <a:endParaRPr b="0" lang="en-US" sz="3200" spc="-1" strike="noStrike">
              <a:solidFill>
                <a:srgbClr val="000000"/>
              </a:solidFill>
              <a:latin typeface="Calibri"/>
            </a:endParaRPr>
          </a:p>
        </p:txBody>
      </p:sp>
      <p:pic>
        <p:nvPicPr>
          <p:cNvPr id="122" name="Picture Placeholder 2" descr="Figure_01_01_05.jpg"/>
          <p:cNvPicPr/>
          <p:nvPr/>
        </p:nvPicPr>
        <p:blipFill>
          <a:blip r:embed="rId1"/>
          <a:srcRect l="-1801" t="51513" r="25057" b="0"/>
          <a:stretch/>
        </p:blipFill>
        <p:spPr>
          <a:xfrm>
            <a:off x="304920" y="2057400"/>
            <a:ext cx="304776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sion of Contro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and Negative Contr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robustness of an experi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s to eliminate false positives and neg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upon the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276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Organization</a:t>
            </a:r>
            <a:endParaRPr b="0" lang="en-US" sz="4000" spc="-1" strike="noStrike">
              <a:solidFill>
                <a:srgbClr val="000000"/>
              </a:solidFill>
              <a:latin typeface="Calibri"/>
            </a:endParaRPr>
          </a:p>
        </p:txBody>
      </p:sp>
      <p:pic>
        <p:nvPicPr>
          <p:cNvPr id="50" name="Content Placeholder 3" descr="figure_01_01_labeled.jpg"/>
          <p:cNvPicPr/>
          <p:nvPr/>
        </p:nvPicPr>
        <p:blipFill>
          <a:blip r:embed="rId1"/>
          <a:stretch/>
        </p:blipFill>
        <p:spPr>
          <a:xfrm>
            <a:off x="3276720" y="12600"/>
            <a:ext cx="5867280" cy="6845400"/>
          </a:xfrm>
          <a:prstGeom prst="rect">
            <a:avLst/>
          </a:prstGeom>
          <a:ln w="0">
            <a:noFill/>
          </a:ln>
        </p:spPr>
      </p:pic>
      <p:sp>
        <p:nvSpPr>
          <p:cNvPr id="51" name="Left Brace 6"/>
          <p:cNvSpPr/>
          <p:nvPr/>
        </p:nvSpPr>
        <p:spPr>
          <a:xfrm>
            <a:off x="2743200" y="152280"/>
            <a:ext cx="609480" cy="2438640"/>
          </a:xfrm>
          <a:custGeom>
            <a:avLst/>
            <a:gdLst>
              <a:gd name="textAreaLeft" fmla="*/ 389520 w 609480"/>
              <a:gd name="textAreaRight" fmla="*/ 609840 w 609480"/>
              <a:gd name="textAreaTop" fmla="*/ 15840 h 2438640"/>
              <a:gd name="textAreaBottom" fmla="*/ 2422800 h 24386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7"/>
          <p:cNvSpPr/>
          <p:nvPr/>
        </p:nvSpPr>
        <p:spPr>
          <a:xfrm>
            <a:off x="1219320" y="106668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 1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Your Understanding</a:t>
            </a:r>
            <a:endParaRPr b="0" lang="en-US" sz="4400" spc="-1" strike="noStrike">
              <a:solidFill>
                <a:srgbClr val="000000"/>
              </a:solidFill>
              <a:latin typeface="Calibri"/>
            </a:endParaRPr>
          </a:p>
        </p:txBody>
      </p:sp>
      <p:sp>
        <p:nvSpPr>
          <p:cNvPr id="126" name=""/>
          <p:cNvSpPr txBox="1"/>
          <p:nvPr/>
        </p:nvSpPr>
        <p:spPr>
          <a:xfrm>
            <a:off x="304920" y="1600200"/>
            <a:ext cx="8534160" cy="4572000"/>
          </a:xfrm>
          <a:prstGeom prst="rect">
            <a:avLst/>
          </a:prstGeom>
          <a:noFill/>
          <a:ln w="0">
            <a:noFill/>
          </a:ln>
        </p:spPr>
        <p:txBody>
          <a:bodyPr anchor="t">
            <a:normAutofit/>
          </a:bodyPr>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scientist working for large pharmaceutical company and you believe that you have invented a new drug that is more effective at controlling blood pressure in individuals that suffer from high blood pressure. </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you are tasked with answering is:  </a:t>
            </a:r>
            <a:endParaRPr b="0" lang="en-US" sz="3200" spc="-1" strike="noStrike">
              <a:solidFill>
                <a:srgbClr val="000000"/>
              </a:solidFill>
              <a:latin typeface="Calibri"/>
            </a:endParaRPr>
          </a:p>
          <a:p>
            <a:pPr marL="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128" name="PlaceHolder 2"/>
          <p:cNvSpPr>
            <a:spLocks noGrp="1"/>
          </p:cNvSpPr>
          <p:nvPr>
            <p:ph/>
          </p:nvPr>
        </p:nvSpPr>
        <p:spPr>
          <a:xfrm>
            <a:off x="457200" y="1752120"/>
            <a:ext cx="8229600" cy="4800600"/>
          </a:xfrm>
          <a:prstGeom prst="rect">
            <a:avLst/>
          </a:prstGeom>
          <a:noFill/>
          <a:ln w="0">
            <a:noFill/>
          </a:ln>
        </p:spPr>
        <p:txBody>
          <a:bodyPr anchor="t">
            <a:normAutofit/>
          </a:bodyPr>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is question, develop an appropriate hypothesis.</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an appropriate prediction statement?</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e prediction statement you developed, can you identify your 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w think about controls. In this example, there are a number of potential controls, both positive and negative. For the positive control, we are looking for an independent variable that, when administered to our test subjects will definitively lower blood pressure. Can you think of what that would b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bout the negative control? Can you think of an independent variable that would definitely have no effect on blood press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s Revisited</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Control: Industry Stand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you know will result in a definitive “Yes” to the question you are as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Control: Placeb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ll the other test subjects are taking a pill, our control group needs a pill to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ffects of Pharmaceuticals on Blood Pressure</a:t>
            </a:r>
            <a:endParaRPr b="0" lang="en-US" sz="4000" spc="-1" strike="noStrike">
              <a:solidFill>
                <a:srgbClr val="000000"/>
              </a:solidFill>
              <a:latin typeface="Calibri"/>
            </a:endParaRPr>
          </a:p>
        </p:txBody>
      </p:sp>
      <p:pic>
        <p:nvPicPr>
          <p:cNvPr id="13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5680" y="274320"/>
            <a:ext cx="41911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34" name=""/>
          <p:cNvSpPr txBox="1"/>
          <p:nvPr/>
        </p:nvSpPr>
        <p:spPr>
          <a:xfrm>
            <a:off x="4572000" y="1828440"/>
            <a:ext cx="4572000" cy="42973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Inquiry is a never ending cycle. For every conclusion drawn, many more questions can be ask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cxnSp>
        <p:nvCxnSpPr>
          <p:cNvPr id="136" name="Elbow Connector 19"/>
          <p:cNvCxnSpPr/>
          <p:nvPr/>
        </p:nvCxnSpPr>
        <p:spPr>
          <a:xfrm flipV="1" rot="16200000">
            <a:off x="-1714680" y="3390120"/>
            <a:ext cx="4343760" cy="305280"/>
          </a:xfrm>
          <a:prstGeom prst="bentConnector3">
            <a:avLst>
              <a:gd name="adj1" fmla="val -248"/>
            </a:avLst>
          </a:prstGeom>
          <a:ln w="25560">
            <a:solidFill>
              <a:srgbClr val="000000"/>
            </a:solidFill>
            <a:miter/>
          </a:ln>
        </p:spPr>
      </p:cxnSp>
      <p:cxnSp>
        <p:nvCxnSpPr>
          <p:cNvPr id="137" name="Straight Arrow Connector 22"/>
          <p:cNvCxnSpPr/>
          <p:nvPr/>
        </p:nvCxnSpPr>
        <p:spPr>
          <a:xfrm>
            <a:off x="304560" y="1371240"/>
            <a:ext cx="6865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cology</a:t>
            </a:r>
            <a:endParaRPr b="0" lang="en-US" sz="4400" spc="-1" strike="noStrike">
              <a:solidFill>
                <a:srgbClr val="000000"/>
              </a:solidFill>
              <a:latin typeface="Calibri"/>
            </a:endParaRPr>
          </a:p>
        </p:txBody>
      </p:sp>
      <p:sp>
        <p:nvSpPr>
          <p:cNvPr id="54" name="PlaceHolder 2"/>
          <p:cNvSpPr>
            <a:spLocks noGrp="1"/>
          </p:cNvSpPr>
          <p:nvPr>
            <p:ph/>
          </p:nvPr>
        </p:nvSpPr>
        <p:spPr>
          <a:xfrm>
            <a:off x="0" y="1066320"/>
            <a:ext cx="4495680" cy="5791320"/>
          </a:xfrm>
          <a:prstGeom prst="rect">
            <a:avLst/>
          </a:prstGeom>
          <a:noFill/>
          <a:ln w="0">
            <a:noFill/>
          </a:ln>
        </p:spPr>
        <p:txBody>
          <a:bodyPr anchor="t">
            <a:normAutofit/>
          </a:bodyPr>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Unicode MS"/>
              </a:rPr>
              <a:t>from Greek               oikos “house”             logia “study of.”</a:t>
            </a:r>
            <a:endParaRPr b="0" lang="en-US" sz="2800" spc="-1" strike="noStrike">
              <a:solidFill>
                <a:srgbClr val="000000"/>
              </a:solidFill>
              <a:latin typeface="Calibri"/>
            </a:endParaRPr>
          </a:p>
          <a:p>
            <a:pPr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Study of the household of nature” </a:t>
            </a:r>
            <a:r>
              <a:rPr b="0" lang="en-US" sz="1800" spc="-1" strike="noStrike">
                <a:solidFill>
                  <a:srgbClr val="000000"/>
                </a:solidFill>
                <a:latin typeface="Century Gothic"/>
              </a:rPr>
              <a:t>German biologist Ernst Haeckel</a:t>
            </a:r>
            <a:endParaRPr b="0" lang="en-US" sz="1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tribution of and interrelationships between organisms and their environment</a:t>
            </a:r>
            <a:endParaRPr b="0" lang="en-US" sz="2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lows of energy and resources thru the ecosystem</a:t>
            </a:r>
            <a:endParaRPr b="0" lang="en-US" sz="2800" spc="-1" strike="noStrike">
              <a:solidFill>
                <a:srgbClr val="000000"/>
              </a:solidFill>
              <a:latin typeface="Calibri"/>
            </a:endParaRPr>
          </a:p>
        </p:txBody>
      </p:sp>
      <p:pic>
        <p:nvPicPr>
          <p:cNvPr id="55" name="Picture 5" descr="199361799_d802f1031c"/>
          <p:cNvPicPr/>
          <p:nvPr/>
        </p:nvPicPr>
        <p:blipFill>
          <a:blip r:embed="rId1"/>
          <a:stretch/>
        </p:blipFill>
        <p:spPr>
          <a:xfrm>
            <a:off x="4576680" y="3240"/>
            <a:ext cx="4567320" cy="6851520"/>
          </a:xfrm>
          <a:prstGeom prst="rect">
            <a:avLst/>
          </a:prstGeom>
          <a:ln w="0">
            <a:noFill/>
          </a:ln>
        </p:spPr>
      </p:pic>
      <p:sp>
        <p:nvSpPr>
          <p:cNvPr id="56"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432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y study biology?</a:t>
            </a:r>
            <a:endParaRPr b="0" lang="en-US" sz="4000" spc="-1" strike="noStrike">
              <a:solidFill>
                <a:srgbClr val="000000"/>
              </a:solidFill>
              <a:latin typeface="Calibri"/>
            </a:endParaRPr>
          </a:p>
        </p:txBody>
      </p:sp>
      <p:sp>
        <p:nvSpPr>
          <p:cNvPr id="58" name="PlaceHolder 2"/>
          <p:cNvSpPr>
            <a:spLocks noGrp="1"/>
          </p:cNvSpPr>
          <p:nvPr>
            <p:ph/>
          </p:nvPr>
        </p:nvSpPr>
        <p:spPr>
          <a:xfrm>
            <a:off x="228240" y="1371600"/>
            <a:ext cx="441972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learn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organisms are constructed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y func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they liv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y do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help develop, modify, and refine ideas about life</a:t>
            </a:r>
            <a:endParaRPr b="0" lang="en-US" sz="3200" spc="-1" strike="noStrike">
              <a:solidFill>
                <a:srgbClr val="000000"/>
              </a:solidFill>
              <a:latin typeface="Calibri"/>
            </a:endParaRPr>
          </a:p>
        </p:txBody>
      </p:sp>
      <p:pic>
        <p:nvPicPr>
          <p:cNvPr id="59" name="Picture 5" descr="124918714_31b9328da2"/>
          <p:cNvPicPr/>
          <p:nvPr/>
        </p:nvPicPr>
        <p:blipFill>
          <a:blip r:embed="rId1"/>
          <a:stretch/>
        </p:blipFill>
        <p:spPr>
          <a:xfrm>
            <a:off x="4952880" y="1290600"/>
            <a:ext cx="3894120" cy="5191200"/>
          </a:xfrm>
          <a:prstGeom prst="rect">
            <a:avLst/>
          </a:prstGeom>
          <a:ln w="0">
            <a:noFill/>
          </a:ln>
        </p:spPr>
      </p:pic>
      <p:sp>
        <p:nvSpPr>
          <p:cNvPr id="60" name="TextBox 4"/>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895480"/>
            <a:ext cx="8229600" cy="106704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How do we “do” biology?</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5638680" y="380880"/>
            <a:ext cx="3273480" cy="2479680"/>
          </a:xfrm>
          <a:prstGeom prst="rect">
            <a:avLst/>
          </a:prstGeom>
          <a:ln w="0">
            <a:noFill/>
          </a:ln>
        </p:spPr>
      </p:pic>
      <p:pic>
        <p:nvPicPr>
          <p:cNvPr id="63" name="Picture 9" descr="biologist"/>
          <p:cNvPicPr/>
          <p:nvPr/>
        </p:nvPicPr>
        <p:blipFill>
          <a:blip r:embed="rId2"/>
          <a:stretch/>
        </p:blipFill>
        <p:spPr>
          <a:xfrm>
            <a:off x="228600" y="3962520"/>
            <a:ext cx="3706920" cy="2711160"/>
          </a:xfrm>
          <a:prstGeom prst="rect">
            <a:avLst/>
          </a:prstGeom>
          <a:ln w="0">
            <a:noFill/>
          </a:ln>
        </p:spPr>
      </p:pic>
      <p:sp>
        <p:nvSpPr>
          <p:cNvPr id="64" name="TextBox 5"/>
          <p:cNvSpPr/>
          <p:nvPr/>
        </p:nvSpPr>
        <p:spPr>
          <a:xfrm>
            <a:off x="228600" y="6400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hn Day Fossil Beds National Monume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280812"/>
          <p:cNvPicPr/>
          <p:nvPr/>
        </p:nvPicPr>
        <p:blipFill>
          <a:blip r:embed="rId1"/>
          <a:stretch/>
        </p:blipFill>
        <p:spPr>
          <a:xfrm>
            <a:off x="3470400" y="2819520"/>
            <a:ext cx="5373720" cy="3595680"/>
          </a:xfrm>
          <a:prstGeom prst="rect">
            <a:avLst/>
          </a:prstGeom>
          <a:ln w="0">
            <a:noFill/>
          </a:ln>
        </p:spPr>
      </p:pic>
      <p:pic>
        <p:nvPicPr>
          <p:cNvPr id="66" name="Picture 8" descr="280878"/>
          <p:cNvPicPr/>
          <p:nvPr/>
        </p:nvPicPr>
        <p:blipFill>
          <a:blip r:embed="rId2"/>
          <a:stretch/>
        </p:blipFill>
        <p:spPr>
          <a:xfrm>
            <a:off x="228600" y="1600200"/>
            <a:ext cx="3805200" cy="5073480"/>
          </a:xfrm>
          <a:prstGeom prst="rect">
            <a:avLst/>
          </a:prstGeom>
          <a:ln w="0">
            <a:noFill/>
          </a:ln>
        </p:spPr>
      </p:pic>
      <p:pic>
        <p:nvPicPr>
          <p:cNvPr id="67" name="Picture 6" descr="biologist"/>
          <p:cNvPicPr/>
          <p:nvPr/>
        </p:nvPicPr>
        <p:blipFill>
          <a:blip r:embed="rId3"/>
          <a:stretch/>
        </p:blipFill>
        <p:spPr>
          <a:xfrm>
            <a:off x="1676520" y="304920"/>
            <a:ext cx="3771720" cy="2514600"/>
          </a:xfrm>
          <a:prstGeom prst="rect">
            <a:avLst/>
          </a:prstGeom>
          <a:ln w="0">
            <a:noFill/>
          </a:ln>
        </p:spPr>
      </p:pic>
      <p:pic>
        <p:nvPicPr>
          <p:cNvPr id="68" name="Picture 12" descr="biol_03_img0274"/>
          <p:cNvPicPr/>
          <p:nvPr/>
        </p:nvPicPr>
        <p:blipFill>
          <a:blip r:embed="rId4"/>
          <a:stretch/>
        </p:blipFill>
        <p:spPr>
          <a:xfrm>
            <a:off x="4836960" y="304920"/>
            <a:ext cx="4116600" cy="2743200"/>
          </a:xfrm>
          <a:prstGeom prst="rect">
            <a:avLst/>
          </a:prstGeom>
          <a:ln w="0">
            <a:noFill/>
          </a:ln>
        </p:spPr>
      </p:pic>
      <p:sp>
        <p:nvSpPr>
          <p:cNvPr id="69" name="TextBox 5"/>
          <p:cNvSpPr/>
          <p:nvPr/>
        </p:nvSpPr>
        <p:spPr>
          <a:xfrm>
            <a:off x="228600" y="624852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Alaskan National Park Service</a:t>
            </a:r>
            <a:endParaRPr b="0" lang="en-US" sz="1000" spc="-1" strike="noStrike">
              <a:solidFill>
                <a:srgbClr val="000000"/>
              </a:solidFill>
              <a:latin typeface="Calibri"/>
            </a:endParaRPr>
          </a:p>
        </p:txBody>
      </p:sp>
      <p:sp>
        <p:nvSpPr>
          <p:cNvPr id="70" name="TextBox 6"/>
          <p:cNvSpPr/>
          <p:nvPr/>
        </p:nvSpPr>
        <p:spPr>
          <a:xfrm>
            <a:off x="4952880" y="27432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Dunleavy, Wikimedia Commons</a:t>
            </a:r>
            <a:endParaRPr b="0" lang="en-US" sz="1000" spc="-1" strike="noStrike">
              <a:solidFill>
                <a:srgbClr val="000000"/>
              </a:solidFill>
              <a:latin typeface="Calibri"/>
            </a:endParaRPr>
          </a:p>
        </p:txBody>
      </p:sp>
      <p:sp>
        <p:nvSpPr>
          <p:cNvPr id="71" name="TextBox 7"/>
          <p:cNvSpPr/>
          <p:nvPr/>
        </p:nvSpPr>
        <p:spPr>
          <a:xfrm>
            <a:off x="5105520" y="60958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n Vanderwerff, Wikimedia Commons</a:t>
            </a:r>
            <a:endParaRPr b="0" lang="en-US" sz="1000" spc="-1" strike="noStrike">
              <a:solidFill>
                <a:srgbClr val="000000"/>
              </a:solidFill>
              <a:latin typeface="Calibri"/>
            </a:endParaRPr>
          </a:p>
        </p:txBody>
      </p:sp>
      <p:sp>
        <p:nvSpPr>
          <p:cNvPr id="72" name="TextBox 8"/>
          <p:cNvSpPr/>
          <p:nvPr/>
        </p:nvSpPr>
        <p:spPr>
          <a:xfrm>
            <a:off x="1676520" y="24382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Hildebrand,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sp>
        <p:nvSpPr>
          <p:cNvPr id="74" name="PlaceHolder 1"/>
          <p:cNvSpPr>
            <a:spLocks noGrp="1"/>
          </p:cNvSpPr>
          <p:nvPr>
            <p:ph type="title"/>
          </p:nvPr>
        </p:nvSpPr>
        <p:spPr>
          <a:xfrm>
            <a:off x="4419720" y="304560"/>
            <a:ext cx="449568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cientists Study Life?</a:t>
            </a:r>
            <a:endParaRPr b="0" lang="en-US" sz="4400" spc="-1" strike="noStrike">
              <a:solidFill>
                <a:srgbClr val="000000"/>
              </a:solidFill>
              <a:latin typeface="Calibri"/>
            </a:endParaRPr>
          </a:p>
        </p:txBody>
      </p:sp>
      <p:sp>
        <p:nvSpPr>
          <p:cNvPr id="75" name="PlaceHolder 2"/>
          <p:cNvSpPr>
            <a:spLocks noGrp="1"/>
          </p:cNvSpPr>
          <p:nvPr>
            <p:ph/>
          </p:nvPr>
        </p:nvSpPr>
        <p:spPr>
          <a:xfrm>
            <a:off x="4876560" y="3200040"/>
            <a:ext cx="380988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cientific method</a:t>
            </a:r>
            <a:r>
              <a:rPr b="0" lang="en-US" sz="3200" spc="-1" strike="noStrike">
                <a:solidFill>
                  <a:srgbClr val="000000"/>
                </a:solidFill>
                <a:latin typeface="Calibri"/>
              </a:rPr>
              <a:t> is the basis for scientific inqui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77" name=""/>
          <p:cNvSpPr txBox="1"/>
          <p:nvPr/>
        </p:nvSpPr>
        <p:spPr>
          <a:xfrm>
            <a:off x="2743200" y="1600200"/>
            <a:ext cx="64008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houseplants use more water in the summer than in wint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ncreased air temperatures increase the amount of water consumption in pla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Placeholder 2" descr="Figure_01_01_05.jpg"/>
          <p:cNvPicPr/>
          <p:nvPr/>
        </p:nvPicPr>
        <p:blipFill>
          <a:blip r:embed="rId1"/>
          <a:srcRect l="11622" t="0" r="36427" b="64523"/>
          <a:stretch/>
        </p:blipFill>
        <p:spPr>
          <a:xfrm>
            <a:off x="0" y="1600200"/>
            <a:ext cx="281952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difference between a hypothesis and a scientific theory?</a:t>
            </a:r>
            <a:endParaRPr b="0" lang="en-US" sz="4400" spc="-1" strike="noStrike">
              <a:solidFill>
                <a:srgbClr val="000000"/>
              </a:solidFill>
              <a:latin typeface="Calibri"/>
            </a:endParaRPr>
          </a:p>
        </p:txBody>
      </p:sp>
      <p:sp>
        <p:nvSpPr>
          <p:cNvPr id="80" name="PlaceHolder 2"/>
          <p:cNvSpPr>
            <a:spLocks noGrp="1"/>
          </p:cNvSpPr>
          <p:nvPr>
            <p:ph/>
          </p:nvPr>
        </p:nvSpPr>
        <p:spPr>
          <a:xfrm>
            <a:off x="-360" y="1904760"/>
            <a:ext cx="8839080" cy="4267080"/>
          </a:xfrm>
          <a:prstGeom prst="rect">
            <a:avLst/>
          </a:prstGeom>
          <a:noFill/>
          <a:ln w="0">
            <a:noFill/>
          </a:ln>
        </p:spPr>
        <p:txBody>
          <a:bodyPr anchor="t">
            <a:normAutofit/>
          </a:bodyPr>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A</a:t>
            </a:r>
            <a:r>
              <a:rPr b="1" lang="en-US" sz="2700" spc="-1" strike="noStrike">
                <a:solidFill>
                  <a:srgbClr val="000000"/>
                </a:solidFill>
                <a:latin typeface="Calibri"/>
                <a:ea typeface="Times New Roman"/>
              </a:rPr>
              <a:t> </a:t>
            </a:r>
            <a:r>
              <a:rPr b="1" lang="en-US" sz="2700" spc="-1" strike="noStrike">
                <a:solidFill>
                  <a:srgbClr val="0066cc"/>
                </a:solidFill>
                <a:latin typeface="Calibri"/>
                <a:ea typeface="Times New Roman"/>
              </a:rPr>
              <a:t>hypothesis</a:t>
            </a:r>
            <a:r>
              <a:rPr b="0" lang="en-US" sz="2700" spc="-1" strike="noStrike">
                <a:solidFill>
                  <a:srgbClr val="000000"/>
                </a:solidFill>
                <a:latin typeface="Calibri"/>
                <a:ea typeface="Times New Roman"/>
              </a:rPr>
              <a:t> is an </a:t>
            </a:r>
            <a:r>
              <a:rPr b="0" lang="en-US" sz="2700" spc="-1" strike="noStrike">
                <a:solidFill>
                  <a:srgbClr val="0066cc"/>
                </a:solidFill>
                <a:latin typeface="Calibri"/>
                <a:ea typeface="Times New Roman"/>
              </a:rPr>
              <a:t>educated guess</a:t>
            </a:r>
            <a:r>
              <a:rPr b="0" lang="en-US" sz="2700" spc="-1" strike="noStrike">
                <a:solidFill>
                  <a:srgbClr val="000000"/>
                </a:solidFill>
                <a:latin typeface="Calibri"/>
                <a:ea typeface="Times New Roman"/>
              </a:rPr>
              <a:t> as to the answer to a question based on your own prior knowledge or from reading literature on the subject</a:t>
            </a:r>
            <a:endParaRPr b="0" lang="en-US" sz="2700" spc="-1" strike="noStrike">
              <a:solidFill>
                <a:srgbClr val="000000"/>
              </a:solidFill>
              <a:latin typeface="Calibri"/>
            </a:endParaRPr>
          </a:p>
          <a:p>
            <a:pPr marL="4572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1" lang="en-US" sz="2700" spc="-1" strike="noStrike">
                <a:solidFill>
                  <a:srgbClr val="0066cc"/>
                </a:solidFill>
                <a:latin typeface="Calibri"/>
                <a:ea typeface="Arial Unicode MS"/>
              </a:rPr>
              <a:t>theory</a:t>
            </a:r>
            <a:r>
              <a:rPr b="1" lang="en-US" sz="2700" spc="-1" strike="noStrike">
                <a:solidFill>
                  <a:srgbClr val="000000"/>
                </a:solidFill>
                <a:latin typeface="Calibri"/>
                <a:ea typeface="Arial Unicode MS"/>
              </a:rPr>
              <a:t>:</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generalization based on many observations and experiments</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0" lang="en-US" sz="2700" spc="-1" strike="noStrike">
                <a:solidFill>
                  <a:srgbClr val="0066cc"/>
                </a:solidFill>
                <a:latin typeface="Calibri"/>
                <a:ea typeface="Arial Unicode MS"/>
              </a:rPr>
              <a:t>well-tested, verified hypothesis</a:t>
            </a:r>
            <a:r>
              <a:rPr b="0" lang="en-US" sz="2700" spc="-1" strike="noStrike">
                <a:solidFill>
                  <a:srgbClr val="000000"/>
                </a:solidFill>
                <a:latin typeface="Calibri"/>
                <a:ea typeface="Arial Unicode MS"/>
              </a:rPr>
              <a:t> that fits existing data and explains how processes or events are thought to occur</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basis for predicting future events or discover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22:24:38Z</dcterms:created>
  <dc:creator>Miranda</dc:creator>
  <dc:description/>
  <dc:language>en-US</dc:language>
  <cp:lastModifiedBy>Miranda</cp:lastModifiedBy>
  <dcterms:modified xsi:type="dcterms:W3CDTF">2013-12-04T06:17:27Z</dcterms:modified>
  <cp:revision>35</cp:revision>
  <dc:subject/>
  <dc:title>An Introduction to Life on Earth</dc:title>
</cp:coreProperties>
</file>