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4CF4C-1558-485F-A443-EF46D443E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89817-70CC-4ABB-933C-D8A512602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F7222-8BE0-4578-A6A1-DF3B6218D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943BF-F9EB-43FB-A524-2CAA8A74C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1D7E1-C3DD-47A9-A4AA-6A2A89DD3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99F9E-AE50-4649-8049-57D215C3E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89B51-4BB1-4DE3-8CBA-E9A2C5A36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89560-2EA3-4292-95BC-158A1B423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198F7-8238-4713-B917-A88DAA9B9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0E0C0-F71E-425E-903B-9B24A795E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836F1-0DB7-43AC-A646-B29F03544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B2850-30A0-4101-8EAD-FB6F38484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5D96A-A9CC-475B-97AD-D83833580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B2976-947B-49EB-8A66-445C991D0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42638-D737-4036-B576-8BEA4A33E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12AA4-092A-4663-BDEA-FA3C7BD4A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CBDCB-B1D2-4B37-9EF3-1FDCB4FF0D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5B37C-066E-4A98-AA64-0B8D8ACD5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361F7-4FE2-448A-98D2-71675DE9D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74CF0-902B-4FB6-9129-AAD3E2990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7F662-101D-4003-AABB-606A9FE06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BC6E5-742B-44FE-8358-FB577398D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5F378-AF77-4273-B864-C6B3CCC7C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F1DF2-42F0-4AFB-A1A0-37DBEA8AA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8DC1-61CD-4961-BC55-810A3751C1FA}"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F2111-83B8-4C6C-9D7C-C17032C97486}"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tgtEl>
                                          <p:spTgt spid="1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1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1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118"/>
                                        </p:tgtEl>
                                        <p:attrNameLst>
                                          <p:attrName>style.visibility</p:attrName>
                                        </p:attrNameLst>
                                      </p:cBhvr>
                                      <p:to>
                                        <p:strVal val="visible"/>
                                      </p:to>
                                    </p:set>
                                    <p:anim calcmode="lin" valueType="num">
                                      <p:cBhvr additive="repl">
                                        <p:cTn id="15" dur="1000" fill="hold"/>
                                        <p:tgtEl>
                                          <p:spTgt spid="118"/>
                                        </p:tgtEl>
                                        <p:attrNameLst>
                                          <p:attrName>ppt_w</p:attrName>
                                        </p:attrNameLst>
                                      </p:cBhvr>
                                      <p:tavLst>
                                        <p:tav tm="0">
                                          <p:val>
                                            <p:strVal val="#ppt_w*0.70"/>
                                          </p:val>
                                        </p:tav>
                                        <p:tav tm="100000">
                                          <p:val>
                                            <p:strVal val="#ppt_w"/>
                                          </p:val>
                                        </p:tav>
                                      </p:tavLst>
                                    </p:anim>
                                    <p:anim calcmode="lin" valueType="num">
                                      <p:cBhvr additive="repl">
                                        <p:cTn id="16" dur="1000" fill="hold"/>
                                        <p:tgtEl>
                                          <p:spTgt spid="118"/>
                                        </p:tgtEl>
                                        <p:attrNameLst>
                                          <p:attrName>ppt_h</p:attrName>
                                        </p:attrNameLst>
                                      </p:cBhvr>
                                      <p:tavLst>
                                        <p:tav tm="0">
                                          <p:val>
                                            <p:strVal val="#ppt_h"/>
                                          </p:val>
                                        </p:tav>
                                        <p:tav tm="100000">
                                          <p:val>
                                            <p:strVal val="#ppt_h"/>
                                          </p:val>
                                        </p:tav>
                                      </p:tavLst>
                                    </p:anim>
                                    <p:animEffect filter="fade" transition="in">
                                      <p:cBhvr additive="repl">
                                        <p:cTn id="17" dur="1000"/>
                                        <p:tgtEl>
                                          <p:spTgt spid="11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119"/>
                                        </p:tgtEl>
                                        <p:attrNameLst>
                                          <p:attrName>style.visibility</p:attrName>
                                        </p:attrNameLst>
                                      </p:cBhvr>
                                      <p:to>
                                        <p:strVal val="visible"/>
                                      </p:to>
                                    </p:set>
                                    <p:anim calcmode="lin" valueType="num">
                                      <p:cBhvr additive="repl">
                                        <p:cTn id="22" dur="500" fill="hold"/>
                                        <p:tgtEl>
                                          <p:spTgt spid="1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 dur="500" fill="hold"/>
                                        <p:tgtEl>
                                          <p:spTgt spid="1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 dur="500" fill="hold"/>
                                        <p:tgtEl>
                                          <p:spTgt spid="1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