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19.png" ContentType="image/png"/>
  <Override PartName="/ppt/media/image18.jpeg" ContentType="image/jpeg"/>
  <Override PartName="/ppt/media/explode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E7A5-D2ED-4377-82C1-6A74FA6E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2999-BCE1-4588-9EC4-E4A2F5F9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F5D-7652-4128-AAA7-5B25DFF2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E46A-19FF-45AE-9792-135E458E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1646-F7A8-49B3-8D57-FA5FD1A2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B137-8E66-425E-8940-3DA540CC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BDFB-E56B-4726-A558-A9491552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7079-B930-4431-AF47-9C289075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D180-AE95-471D-B419-8EEEAA48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B183-225E-4DED-BDFA-6C47A0A8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93D5-3969-422A-8C8F-AA3DEB0F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EB4-98F7-4E0E-B83A-0C3CD02A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9453-FD02-4D4F-9305-5058DEC0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1248-FCB0-4F9E-B4CE-35572FD1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CDCC-D4AE-433E-AAE8-4749F9A1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BCE1-6730-40C8-9E8F-97DB6076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920B-9F89-413F-9BEA-25A7C9E6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D280-09E5-4F49-9CB7-6B534867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2658-9021-4C86-8131-DF40E0A5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BC06-9D15-4BA9-9658-80E6C578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8DC9-46EE-4D6F-AEB4-41D50E54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EF78-888B-4170-8A41-A7F707C9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959E-5978-4CAB-BFAB-6E536078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0552-0413-4149-BA35-83C20ED2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1D9F-5FF1-4388-96E6-98FB6B3442E0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9D45-C94D-4893-8A96-04EBD3AC888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Concord Naval Weapons Station"/>
          <p:cNvPicPr/>
          <p:nvPr/>
        </p:nvPicPr>
        <p:blipFill>
          <a:blip r:embed="rId1"/>
          <a:stretch/>
        </p:blipFill>
        <p:spPr>
          <a:xfrm>
            <a:off x="762120" y="1523880"/>
            <a:ext cx="3429000" cy="2486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oncord Station - Protest photo"/>
          <p:cNvPicPr/>
          <p:nvPr/>
        </p:nvPicPr>
        <p:blipFill>
          <a:blip r:embed="rId2"/>
          <a:stretch/>
        </p:blipFill>
        <p:spPr>
          <a:xfrm>
            <a:off x="4724280" y="1523880"/>
            <a:ext cx="3784680" cy="250524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533520" y="990720"/>
            <a:ext cx="87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eptember 1, 1987: Concord Nuclear Weapons St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Picture 5" descr="pic 1.jpg"/>
          <p:cNvPicPr/>
          <p:nvPr/>
        </p:nvPicPr>
        <p:blipFill>
          <a:blip r:embed="rId3"/>
          <a:stretch/>
        </p:blipFill>
        <p:spPr>
          <a:xfrm>
            <a:off x="1066680" y="4133880"/>
            <a:ext cx="2938680" cy="2724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pic 2.jpg"/>
          <p:cNvPicPr/>
          <p:nvPr/>
        </p:nvPicPr>
        <p:blipFill>
          <a:blip r:embed="rId4"/>
          <a:stretch/>
        </p:blipFill>
        <p:spPr>
          <a:xfrm>
            <a:off x="4876920" y="4267080"/>
            <a:ext cx="27939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Picture 3" descr="Greeks -- Theatre of Dionysus, ruin"/>
          <p:cNvPicPr/>
          <p:nvPr/>
        </p:nvPicPr>
        <p:blipFill>
          <a:blip r:embed="rId1"/>
          <a:stretch/>
        </p:blipFill>
        <p:spPr>
          <a:xfrm>
            <a:off x="1295280" y="43434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5179320" y="1981080"/>
            <a:ext cx="3531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rama developed fro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itual dances and worshi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Dionysu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, God of win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nd emo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Hubri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”: Tragic flaw cau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ne with great power t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all through iron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Catharsis”: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Vicarious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dentification of people wit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haracters, leading to relea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emotion and exploration of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onflicting issues, especially th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ndividual vs. the Communit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Picture 5" descr="Greeks -- Theatre of Dionysus in Athens"/>
          <p:cNvPicPr/>
          <p:nvPr/>
        </p:nvPicPr>
        <p:blipFill>
          <a:blip r:embed="rId2"/>
          <a:stretch/>
        </p:blipFill>
        <p:spPr>
          <a:xfrm>
            <a:off x="1371600" y="1828800"/>
            <a:ext cx="32004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Greeks - Antigone, modern poster"/>
          <p:cNvPicPr/>
          <p:nvPr/>
        </p:nvPicPr>
        <p:blipFill>
          <a:blip r:embed="rId1"/>
          <a:stretch/>
        </p:blipFill>
        <p:spPr>
          <a:xfrm>
            <a:off x="228600" y="838080"/>
            <a:ext cx="4000680" cy="2500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Greeks - Antigone and Ismene"/>
          <p:cNvPicPr/>
          <p:nvPr/>
        </p:nvPicPr>
        <p:blipFill>
          <a:blip r:embed="rId2"/>
          <a:stretch/>
        </p:blipFill>
        <p:spPr>
          <a:xfrm>
            <a:off x="4343400" y="685800"/>
            <a:ext cx="1982880" cy="2921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Greeks - Antigone and Haemon"/>
          <p:cNvPicPr/>
          <p:nvPr/>
        </p:nvPicPr>
        <p:blipFill>
          <a:blip r:embed="rId3"/>
          <a:stretch/>
        </p:blipFill>
        <p:spPr>
          <a:xfrm>
            <a:off x="4191120" y="4038480"/>
            <a:ext cx="3193920" cy="226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Greeks - Antigone and Creon"/>
          <p:cNvPicPr/>
          <p:nvPr/>
        </p:nvPicPr>
        <p:blipFill>
          <a:blip r:embed="rId4"/>
          <a:stretch/>
        </p:blipFill>
        <p:spPr>
          <a:xfrm>
            <a:off x="457200" y="35053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Greeks - Oedipus blind"/>
          <p:cNvPicPr/>
          <p:nvPr/>
        </p:nvPicPr>
        <p:blipFill>
          <a:blip r:embed="rId5"/>
          <a:stretch/>
        </p:blipFill>
        <p:spPr>
          <a:xfrm>
            <a:off x="6651720" y="990720"/>
            <a:ext cx="24922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merican Tragedie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Picture 3" descr="Nixon, Richard -- on phone"/>
          <p:cNvPicPr/>
          <p:nvPr/>
        </p:nvPicPr>
        <p:blipFill>
          <a:blip r:embed="rId1"/>
          <a:stretch/>
        </p:blipFill>
        <p:spPr>
          <a:xfrm>
            <a:off x="1676520" y="2133720"/>
            <a:ext cx="193968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STewart, Martha - Going to prison"/>
          <p:cNvPicPr/>
          <p:nvPr/>
        </p:nvPicPr>
        <p:blipFill>
          <a:blip r:embed="rId2"/>
          <a:stretch/>
        </p:blipFill>
        <p:spPr>
          <a:xfrm>
            <a:off x="4724280" y="2286000"/>
            <a:ext cx="2457720" cy="18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omedy: “Lysistrata” by Aristopha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9" name="Picture 3" descr="Greeks -- Lysistrata, Rock opera poster"/>
          <p:cNvPicPr/>
          <p:nvPr/>
        </p:nvPicPr>
        <p:blipFill>
          <a:blip r:embed="rId1"/>
          <a:stretch/>
        </p:blipFill>
        <p:spPr>
          <a:xfrm>
            <a:off x="2743200" y="2133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Greeks -- Lysistrata, photo from broadway play"/>
          <p:cNvPicPr/>
          <p:nvPr/>
        </p:nvPicPr>
        <p:blipFill>
          <a:blip r:embed="rId2"/>
          <a:stretch/>
        </p:blipFill>
        <p:spPr>
          <a:xfrm>
            <a:off x="304920" y="3429000"/>
            <a:ext cx="2571480" cy="2940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Greeks -- Peloponnesian war poster"/>
          <p:cNvPicPr/>
          <p:nvPr/>
        </p:nvPicPr>
        <p:blipFill>
          <a:blip r:embed="rId3"/>
          <a:stretch/>
        </p:blipFill>
        <p:spPr>
          <a:xfrm>
            <a:off x="5181480" y="2133720"/>
            <a:ext cx="31258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08:33Z</dcterms:created>
  <dc:creator>faculty</dc:creator>
  <dc:description/>
  <dc:language>en-US</dc:language>
  <cp:lastModifiedBy>Robert Harrison</cp:lastModifiedBy>
  <cp:lastPrinted>2009-04-22T19:24:48Z</cp:lastPrinted>
  <dcterms:modified xsi:type="dcterms:W3CDTF">2010-09-16T17:11:06Z</dcterms:modified>
  <cp:revision>61</cp:revision>
  <dc:subject/>
  <dc:title>    Greek Art and Architecture</dc:title>
</cp:coreProperties>
</file>