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5DEE-B857-487C-8AC4-F76A9802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3005-DFEC-4EFE-8259-C5D4E838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E6F3-83C4-4D78-A245-5924CB16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62D7-D3A1-4B1D-A468-77E32500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ACEB-AD50-4452-8F39-411ADD7D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D73D-3FC2-4F87-A4BA-772AA2FB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161A-BE3B-4B3F-A182-36214C18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FA41-18A3-44C5-898D-B9DE3654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645C-B1EB-4D4B-B575-3D30F730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C070-DD2D-4DBD-9D72-B0755330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D121-DB0B-4BCC-BC91-BC204846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C913-EA35-4340-9CF6-05E6CA35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60B0-DFC4-4C1A-ADB6-6E497D6E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A098-6D5B-4DB2-8C94-66823243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E16C-E42C-4FA8-9F54-A5FE2266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8963-D52E-4B6E-ADE2-A90BD51A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F1B1-5901-4007-91A6-DD3CB111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3815-3A74-4779-A5BB-E2069FDE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9F98-0FB7-4CD0-9EF1-3E548874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264-182B-4E66-AF76-1063F9A6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563-2B95-4E15-8D61-35831D3F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94A-C91F-4DE0-8399-FFC45027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E26-E278-4D6E-B6D0-B285A2E1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5B99-EDE2-4546-B472-B20F1767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9F58-AA47-4D44-A238-BC387C87AA0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612D-E472-45C7-9986-292C5E54E85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s: A New Tradi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Greeks%20--%20Ancient%20Greece,%20good%20map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3792240" cy="4267080"/>
          </a:xfrm>
          <a:prstGeom prst="rect">
            <a:avLst/>
          </a:prstGeom>
          <a:ln w="0">
            <a:noFill/>
          </a:ln>
        </p:spPr>
      </p:pic>
      <p:pic>
        <p:nvPicPr>
          <p:cNvPr id="92" name="Greeks%20--%20Daedalus%20with%20Icarus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0639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llenistic Sculpture: Laoco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Greeks%20--%20Laocoon%20sculpture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0292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Greeks%20--%20Theatre%20of%20Dionysus,%20ruin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phocles: Oedipus and Antig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6" name="Greeks%20--%20Theatre%20of%20Dionysus%20from%20spectator's%20view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Greeks%20--%20Actors%20with%20masks%20mosaic" descr=""/>
          <p:cNvPicPr/>
          <p:nvPr/>
        </p:nvPicPr>
        <p:blipFill>
          <a:blip r:embed="rId2"/>
          <a:stretch/>
        </p:blipFill>
        <p:spPr>
          <a:xfrm>
            <a:off x="0" y="2895480"/>
            <a:ext cx="3809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Greeks%20--%20Odssey,%20map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95" name="Greeks%20--%20Wooden%20horse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96" name="Greeks%20--%20The%20Cyclops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Greeks%20--%20Scylla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Civilization: the Classical Spiri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Greeks%20--%20Map%20of%20Greece%20%23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3386160"/>
          </a:xfrm>
          <a:prstGeom prst="rect">
            <a:avLst/>
          </a:prstGeom>
          <a:ln w="0">
            <a:noFill/>
          </a:ln>
        </p:spPr>
      </p:pic>
      <p:pic>
        <p:nvPicPr>
          <p:cNvPr id="100" name="Ancient%20Near%20East%20trade%20routes%20map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40053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Art and Archite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57%20chevy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429000" cy="1965240"/>
          </a:xfrm>
          <a:prstGeom prst="rect">
            <a:avLst/>
          </a:prstGeom>
          <a:ln w="0">
            <a:noFill/>
          </a:ln>
        </p:spPr>
      </p:pic>
      <p:pic>
        <p:nvPicPr>
          <p:cNvPr id="103" name="Gone%20with%20the%20Wind%20poster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820960" cy="4534200"/>
          </a:xfrm>
          <a:prstGeom prst="rect">
            <a:avLst/>
          </a:prstGeom>
          <a:ln w="0">
            <a:noFill/>
          </a:ln>
        </p:spPr>
      </p:pic>
      <p:pic>
        <p:nvPicPr>
          <p:cNvPr id="104" name="Babe%20Ruth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2214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arly Greek sculpture: the “Kouros” and “Kore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Greeks%20--%20Kouros,%20%232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868400" cy="4719600"/>
          </a:xfrm>
          <a:prstGeom prst="rect">
            <a:avLst/>
          </a:prstGeom>
          <a:ln w="0">
            <a:noFill/>
          </a:ln>
        </p:spPr>
      </p:pic>
      <p:pic>
        <p:nvPicPr>
          <p:cNvPr id="107" name="Greeks%20--%20Kore,%20490%20BCE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66760" cy="4267080"/>
          </a:xfrm>
          <a:prstGeom prst="rect">
            <a:avLst/>
          </a:prstGeom>
          <a:ln w="0">
            <a:noFill/>
          </a:ln>
        </p:spPr>
      </p:pic>
      <p:pic>
        <p:nvPicPr>
          <p:cNvPr id="108" name="Egypt%20--%20Akhenaton%20statue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1600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Naturalism: “Kritian” Boy and “Discobolus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Greeks%20--%20Kritian%20boy" descr=""/>
          <p:cNvPicPr/>
          <p:nvPr/>
        </p:nvPicPr>
        <p:blipFill>
          <a:blip r:embed="rId1"/>
          <a:stretch/>
        </p:blipFill>
        <p:spPr>
          <a:xfrm>
            <a:off x="1447920" y="1967040"/>
            <a:ext cx="2293920" cy="4890960"/>
          </a:xfrm>
          <a:prstGeom prst="rect">
            <a:avLst/>
          </a:prstGeom>
          <a:ln w="0">
            <a:noFill/>
          </a:ln>
        </p:spPr>
      </p:pic>
      <p:pic>
        <p:nvPicPr>
          <p:cNvPr id="111" name="Greeks%20--%20Discus%20thrower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ical Architecture: Parthen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Greeks%20--%20Parthenon,%20image%20%231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451400" cy="3233880"/>
          </a:xfrm>
          <a:prstGeom prst="rect">
            <a:avLst/>
          </a:prstGeom>
          <a:ln w="0">
            <a:noFill/>
          </a:ln>
        </p:spPr>
      </p:pic>
      <p:pic>
        <p:nvPicPr>
          <p:cNvPr id="114" name="Greeks%20--%20Acropolis%20and%20theatre,%20aerial%20view" descr=""/>
          <p:cNvPicPr/>
          <p:nvPr/>
        </p:nvPicPr>
        <p:blipFill>
          <a:blip r:embed="rId2"/>
          <a:stretch/>
        </p:blipFill>
        <p:spPr>
          <a:xfrm>
            <a:off x="0" y="1905120"/>
            <a:ext cx="4648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 Sculptures: Pediments and Freiz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Greeks%20--%20Parthenon,%20freize%20depiction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87760" cy="3268800"/>
          </a:xfrm>
          <a:prstGeom prst="rect">
            <a:avLst/>
          </a:prstGeom>
          <a:ln w="0">
            <a:noFill/>
          </a:ln>
        </p:spPr>
      </p:pic>
      <p:pic>
        <p:nvPicPr>
          <p:cNvPr id="117" name="Greeks%20--%20Parthenon%20pediment%20sculpture" descr=""/>
          <p:cNvPicPr/>
          <p:nvPr/>
        </p:nvPicPr>
        <p:blipFill>
          <a:blip r:embed="rId2"/>
          <a:stretch/>
        </p:blipFill>
        <p:spPr>
          <a:xfrm>
            <a:off x="0" y="3624120"/>
            <a:ext cx="45626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: Statue of Athe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Greeks%20--%20parthenon,%20statue%20of%20Athena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50540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Greeks%20--%20parthenon,%20original%20appearance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477036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faculty</cp:lastModifiedBy>
  <dcterms:modified xsi:type="dcterms:W3CDTF">2005-03-15T02:12:42Z</dcterms:modified>
  <cp:revision>3</cp:revision>
  <dc:subject/>
  <dc:title>    Greek Art and Architecture</dc:title>
</cp:coreProperties>
</file>