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applause.wav" ContentType="audio/x-wav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explod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DA32-4D3D-4626-93E7-2E505CA2D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B403-9220-4E9B-ABAE-ACBEF1488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1228-E30B-4ACA-9B40-E7FC3CE3F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8CBC-28B2-4A56-A81F-5C19425D8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A2A83-5C6D-40B6-A213-69776B9A2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AAF39-0DFF-4D0C-AA6B-07781833C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6322C-11F3-4A59-B6CB-3986A73EA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1A8DD-D9B9-4F6F-A28C-4C7CFE9E3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48F91-ABCE-4D3D-B30D-6570FC234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8B547-19FC-4903-B6F7-2FB9F54A5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CA58D-50AD-4DC2-BECC-6171F2BD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8DDB-542C-4CB0-8464-49D7054DF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B03E0-C41D-424A-970A-8E8BCA51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8C65E-8484-49D2-9D8B-1FB884A7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841D7-6284-4282-9AC9-E7CFE6643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718C7-3DFE-45FC-B2EA-7CD6C3954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D95E2-6B87-4DD7-830A-48A3DDEB7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95D8-693A-4CFD-814B-69D74A66E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8EEE-1B59-4F68-A307-0870B246D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9BC6-4E61-4EFD-A34B-00960B06F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4AF4-60AB-403A-9A0B-596046D85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6CEE-BEB3-4E73-831F-D60085D6D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0562-5428-4CAF-B403-278F4DDB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AAE5-6E99-442A-A907-FFF6274B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4028B-6DFC-471F-B63C-4300ADB664BC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74828-F110-40C7-8564-72FB40CE0EC5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1809720" cy="22096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3124080" y="609480"/>
            <a:ext cx="3657600" cy="20480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533520" y="3276720"/>
            <a:ext cx="1955520" cy="2539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3124080" y="2971800"/>
            <a:ext cx="360072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The First Emperor of Chin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1908000" cy="28954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240" y="4267080"/>
            <a:ext cx="175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Qin Shuang-di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221-210 B.C.E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Legalism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2666880" y="1295280"/>
            <a:ext cx="2743200" cy="19227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5638680" y="1447920"/>
            <a:ext cx="2092320" cy="3124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517120" y="3352680"/>
            <a:ext cx="235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Alexander the Great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336-323 BC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69800" y="4724280"/>
            <a:ext cx="166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Julius Caesar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49-44 BC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2438280" y="4343400"/>
            <a:ext cx="1506600" cy="2286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4041000" y="5638680"/>
            <a:ext cx="343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Machiavelli: </a:t>
            </a:r>
            <a:r>
              <a:rPr b="1" lang="en-US" sz="1800" spc="-1" strike="noStrike" u="sng">
                <a:solidFill>
                  <a:srgbClr val="2f1311"/>
                </a:solidFill>
                <a:uFillTx/>
                <a:latin typeface="Arial"/>
              </a:rPr>
              <a:t>The Prince (1513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77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770" fill="hold"/>
                                        <p:tgtEl>
                                          <p:spTgt spid="1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Qin and Lincol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1973520" cy="24670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0640" y="4800600"/>
            <a:ext cx="6781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3 – Both Qin and Lincoln were subject to very different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Historical points of view, with Qin being condemned for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Centuries by scholars trained in Confucian ethics, and with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Lincoln being condemned by a post-war Southern historian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Qin as cruel tyrant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6840" y="1600200"/>
            <a:ext cx="535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1 – Both Qin and Lincoln unified their nation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Through war and tremendous bloodshed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Both earning the title of tyrant during their live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436120" y="2895480"/>
            <a:ext cx="512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2 – Both Qin and Lincoln violated established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Social values in pursuit of greater political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Economic, and social goal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81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8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914400" y="0"/>
            <a:ext cx="3543480" cy="32986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800600" y="304920"/>
            <a:ext cx="1730520" cy="26859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715000" y="3886200"/>
            <a:ext cx="19810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1974:  First pit discovered, 689 feet long and 197 feet wide, containing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over 6,000 clay soldiers, Horses, chariots, in trenches from 14 to 21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Feet deep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228600" y="3505320"/>
            <a:ext cx="533412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8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29080" cy="64674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572000" y="304920"/>
            <a:ext cx="4114800" cy="32302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4635360" y="3846600"/>
            <a:ext cx="344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1974:  Pit #2 discovered, with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1,400 warriors, horses, and 64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Chariots, 64,000 square feet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574520" y="4876920"/>
            <a:ext cx="316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1980:  Pit #3, much smaller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Discovered, with 1 chariot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6 warriors, and weapon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570560" y="5943600"/>
            <a:ext cx="32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Tomb mound of Qin himself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Not yet excavated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4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4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China during Warring States period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22600" cy="44960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5164920" y="1535040"/>
            <a:ext cx="172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480-221 BCE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4876920" y="2362320"/>
            <a:ext cx="25146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Victory of Qin  Shi-huangdi -- 221 BCE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5334120" cy="37767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439920" y="5294160"/>
            <a:ext cx="718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If the whole world has suffered from unceasing warfare, this i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The fault of feudal lords and kings.  Thanks to my ancestors, th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Empire has been pacified for the first time.”  -- Qin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856120" y="1584360"/>
            <a:ext cx="187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Shi: First dynasty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79800" y="2346480"/>
            <a:ext cx="2061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Huang: Thre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Legendary rulers at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Dawn of China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846400" y="3897360"/>
            <a:ext cx="2024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Di:  5 legendary kings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Who followed the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huang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chievements of Qin Shuang-di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8960" y="1243080"/>
            <a:ext cx="695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1 – Unification of China through defeat or rival armies and dismantling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Of aristocratic system of control by feudal lord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40120" y="2004840"/>
            <a:ext cx="667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2 – Creation of districts to replace feudal kingdoms, each with a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Political leader and a military leader (with political leader in control)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42640" y="2843280"/>
            <a:ext cx="6116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3 – Protection of new unified China through completion of th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Great Wall”, 1500 miles long and linking previous wall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3581280"/>
            <a:ext cx="3295800" cy="2205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360240" y="3581280"/>
            <a:ext cx="4312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4 – Standardization of language, currency,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Dismantling barriers between districts,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And uniformity of road and axle width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741840" y="4672080"/>
            <a:ext cx="3454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5 – Creation of vast road and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Canal network to speed economic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growth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649680" y="5927760"/>
            <a:ext cx="349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6 – Ordered construction of one of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World’s most magnificent tomb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77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2" dur="770" fill="hold"/>
                                        <p:tgtEl>
                                          <p:spTgt spid="2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4" dur="77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6" dur="77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50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trocities of Qin Shuangi-di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2960" y="1166760"/>
            <a:ext cx="6706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1 - High taxes and forced labor from millions of peasants, many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Of whom died building Great Wall, roads, canals, and other project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3360" y="2743200"/>
            <a:ext cx="6532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3 - Hostility to Confucian thought and historical writing, leading to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Destruction of all literature not sanctioned by Qin, an inestimabl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Loss of knowledg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99160" y="3794040"/>
            <a:ext cx="50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4 - Burial and execution of 460 Confucian scholar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228600" y="4267080"/>
            <a:ext cx="2081160" cy="24386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2736360" y="4327560"/>
            <a:ext cx="4525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5 - Arbitrary and cruel executions of officials,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Such as generals beheaded for arriving lat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To meeting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526120" y="5510160"/>
            <a:ext cx="473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6 - Spread of a climate of fear and terror,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Leading to revolt and fall of Qin’s new kingdom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Soon after his death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51560" y="1889280"/>
            <a:ext cx="738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2 - Extreme hardship on peasants left on the land, with much of their crop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Taken in taxes and so many others taken away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64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9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07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01:39:44Z</dcterms:created>
  <dc:creator>harrisr</dc:creator>
  <dc:description/>
  <dc:language>en-US</dc:language>
  <cp:lastModifiedBy>Staff</cp:lastModifiedBy>
  <dcterms:modified xsi:type="dcterms:W3CDTF">2008-04-21T20:40:44Z</dcterms:modified>
  <cp:revision>9</cp:revision>
  <dc:subject/>
  <dc:title>Slide 1</dc:title>
</cp:coreProperties>
</file>