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E77-1C58-4E5C-90CB-6C7380B2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763-DC19-4831-88A4-8C0AAB60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587-9F32-447E-BE10-8BE7C250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66B-85B0-4FD9-AD62-88891859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F448-7DFB-491D-88DE-2C7BF554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53BB-29C3-4119-AFE3-7E57289E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36CD-0AC6-4708-93CF-0634E6CB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70E1-397D-4E9B-9972-3E7A733B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FC26-1EE3-411C-AB70-179D90B3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C698-88D2-4AD6-AE1E-DA4A7E5B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65DB-AFE5-4ED6-86D7-565E3323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FCE-0812-4150-BF1F-48791B45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4BCE-ED1F-40CC-B559-BF6C3C68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DD71-96D8-4E46-92C7-2B4F0709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A43B-0778-47E9-A341-58B57107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AFF4-6288-46EB-B4F2-D7DE4EB1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138C-B8ED-4DC4-A52C-F85D0BC2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4B1-D86D-4849-A48B-5E5C01B3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DDB-2151-49B5-BCF7-12227D5A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9857-4124-4004-BFF0-155441E5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74D-24E6-4C57-996E-3227EF20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7DC-0413-43B0-9741-406A9410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A4E-53E0-4DDA-9E1E-05C36ECB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209-2D2E-43AE-A2DD-153D6B35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4097-8A6F-4033-84DA-0B20322635A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10F7-B067-47DD-8AFE-39D90DB0142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s: A New Tradi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Greeks%20--%20Ancient%20Greece,%20good%20map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792240" cy="4267080"/>
          </a:xfrm>
          <a:prstGeom prst="rect">
            <a:avLst/>
          </a:prstGeom>
          <a:ln w="0">
            <a:noFill/>
          </a:ln>
        </p:spPr>
      </p:pic>
      <p:pic>
        <p:nvPicPr>
          <p:cNvPr id="92" name="Greeks%20--%20Daedalus%20with%20Icarus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06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llenistic Sculpture: Laoco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Greeks%20--%20Laocoon%20sculptur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92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Greeks%20--%20Theatre%20of%20Dionysus,%20ruin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phocles: Oedipus and Antig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Greeks%20--%20Theatre%20of%20Dionysus%20from%20spectator's%20view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Greeks%20--%20Actors%20with%20masks%20mosaic" descr=""/>
          <p:cNvPicPr/>
          <p:nvPr/>
        </p:nvPicPr>
        <p:blipFill>
          <a:blip r:embed="rId2"/>
          <a:stretch/>
        </p:blipFill>
        <p:spPr>
          <a:xfrm>
            <a:off x="0" y="2895480"/>
            <a:ext cx="3809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Greeks%20--%20Odssey,%20map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Greeks%20--%20Wooden%20horse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Greeks%20--%20The%20Cyclops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Greeks%20--%20Scylla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Civilization: the Classical Spiri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Greeks%20--%20Map%20of%20Greece%20%23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3386160"/>
          </a:xfrm>
          <a:prstGeom prst="rect">
            <a:avLst/>
          </a:prstGeom>
          <a:ln w="0">
            <a:noFill/>
          </a:ln>
        </p:spPr>
      </p:pic>
      <p:pic>
        <p:nvPicPr>
          <p:cNvPr id="100" name="Ancient%20Near%20East%20trade%20routes%20map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05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Art and Archite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57%20chevy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29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Gone%20with%20the%20Wind%20poster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820960" cy="4534200"/>
          </a:xfrm>
          <a:prstGeom prst="rect">
            <a:avLst/>
          </a:prstGeom>
          <a:ln w="0">
            <a:noFill/>
          </a:ln>
        </p:spPr>
      </p:pic>
      <p:pic>
        <p:nvPicPr>
          <p:cNvPr id="104" name="Babe%20Ruth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2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arly Greek sculpture: the “Kouros” and “Kor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Greeks%20--%20Kouros,%20%23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68400" cy="4719600"/>
          </a:xfrm>
          <a:prstGeom prst="rect">
            <a:avLst/>
          </a:prstGeom>
          <a:ln w="0">
            <a:noFill/>
          </a:ln>
        </p:spPr>
      </p:pic>
      <p:pic>
        <p:nvPicPr>
          <p:cNvPr id="107" name="Greeks%20--%20Kore,%20490%20BCE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6676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Egypt%20--%20Akhenaton%20statue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1600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Naturalism: “Kritian” Boy and “Discobolus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Greeks%20--%20Kritian%20boy" descr=""/>
          <p:cNvPicPr/>
          <p:nvPr/>
        </p:nvPicPr>
        <p:blipFill>
          <a:blip r:embed="rId1"/>
          <a:stretch/>
        </p:blipFill>
        <p:spPr>
          <a:xfrm>
            <a:off x="1447920" y="1967040"/>
            <a:ext cx="2293920" cy="4890960"/>
          </a:xfrm>
          <a:prstGeom prst="rect">
            <a:avLst/>
          </a:prstGeom>
          <a:ln w="0">
            <a:noFill/>
          </a:ln>
        </p:spPr>
      </p:pic>
      <p:pic>
        <p:nvPicPr>
          <p:cNvPr id="111" name="Greeks%20--%20Discus%20thrower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cal Architecture: Parthen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Greeks%20--%20Parthenon,%20image%20%231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451400" cy="3233880"/>
          </a:xfrm>
          <a:prstGeom prst="rect">
            <a:avLst/>
          </a:prstGeom>
          <a:ln w="0">
            <a:noFill/>
          </a:ln>
        </p:spPr>
      </p:pic>
      <p:pic>
        <p:nvPicPr>
          <p:cNvPr id="114" name="Greeks%20--%20Acropolis%20and%20theatre,%20aerial%20view" descr=""/>
          <p:cNvPicPr/>
          <p:nvPr/>
        </p:nvPicPr>
        <p:blipFill>
          <a:blip r:embed="rId2"/>
          <a:stretch/>
        </p:blipFill>
        <p:spPr>
          <a:xfrm>
            <a:off x="0" y="1905120"/>
            <a:ext cx="4648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 Sculptures: Pediments and Freiz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Greeks%20--%20Parthenon,%20freize%20depiction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87760" cy="3268800"/>
          </a:xfrm>
          <a:prstGeom prst="rect">
            <a:avLst/>
          </a:prstGeom>
          <a:ln w="0">
            <a:noFill/>
          </a:ln>
        </p:spPr>
      </p:pic>
      <p:pic>
        <p:nvPicPr>
          <p:cNvPr id="117" name="Greeks%20--%20Parthenon%20pediment%20sculpture" descr=""/>
          <p:cNvPicPr/>
          <p:nvPr/>
        </p:nvPicPr>
        <p:blipFill>
          <a:blip r:embed="rId2"/>
          <a:stretch/>
        </p:blipFill>
        <p:spPr>
          <a:xfrm>
            <a:off x="0" y="3624120"/>
            <a:ext cx="4562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: Statue of Ath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Greeks%20--%20parthenon,%20statue%20of%20Athena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505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Greeks%20--%20parthenon,%20original%20appearance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47703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faculty</cp:lastModifiedBy>
  <dcterms:modified xsi:type="dcterms:W3CDTF">2005-03-15T02:12:42Z</dcterms:modified>
  <cp:revision>3</cp:revision>
  <dc:subject/>
  <dc:title>    Greek Art and Architecture</dc:title>
</cp:coreProperties>
</file>