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applause.wav" ContentType="audio/x-wav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25AE-E6F6-43E6-A31B-97C39C23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9F3-4B4D-4CBD-9DEB-644CCFA1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B23A-EEA0-41E1-8E1B-28F91A8D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E5D8-59D6-4014-A200-8DF32A3F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F7B2-07EF-4003-9877-0BC7ACEA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558C-DCA4-4A06-AAD9-64EE3483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B867-21B3-40B5-BC3F-F117AF30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CE49-11DA-44E5-85E8-8D71BF85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6B3A-3063-4EA8-AB5F-D93E3EBE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857C-E611-4BEB-94B1-884691AE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7D22-3EB0-4917-94B8-674765DB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9368-2456-46D7-9C25-474A0C11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927D-DAB9-4235-8394-445E6CBC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0E6A-8C15-4FAE-B484-BF2C225A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6697-C9CC-4849-86EB-2616F4CF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B164-374F-4A77-B467-83869A02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84DB-6633-4CBF-96DC-B385A156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C81F-CCED-483F-B955-6804BA63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7D94-5C72-481C-AAF7-BBFC33E6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9729-CDE8-4210-8EEB-7B76F8CD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DEC8-DC64-492C-98D7-D65391BB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D0A3-F988-418A-9CF4-7CF2E3B7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C4B-D1F0-4EE6-93C9-2E419A48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DB22-59F7-4BCF-BD74-D46A3752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5EC3-5104-4CE0-B09F-EEF7ACDA1BEF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35BF-BFF0-45B7-B822-1B5EFEA4D4D9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809720" cy="2209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3657600" cy="2048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1955520" cy="2539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124080" y="2971800"/>
            <a:ext cx="36007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First Emperor of Chi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1908000" cy="2895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40" y="4267080"/>
            <a:ext cx="175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Shuang-d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21-210 B.C.E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egalis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2743200" cy="1922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638680" y="1447920"/>
            <a:ext cx="2092320" cy="3124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17120" y="335268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lexander the Grea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36-323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9800" y="47242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Julius Caesa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49-44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438280" y="4343400"/>
            <a:ext cx="1506600" cy="2286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041000" y="56386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achiavelli: </a:t>
            </a:r>
            <a:r>
              <a:rPr b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The Prince (1513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Qin and Lincol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1973520" cy="2467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0640" y="4800600"/>
            <a:ext cx="678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 – Both Qin and Lincoln were subject to very different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Historical points of view, with Qin being condemned for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enturies by scholars trained in Confucian ethics, and wit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incoln being condemned by a post-war Southern histori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as cruel tyra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6840" y="1600200"/>
            <a:ext cx="535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 – Both Qin and Lincoln unified their nati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rough war and tremendous bloodshed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Both earning the title of tyrant during their liv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36120" y="2895480"/>
            <a:ext cx="51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 – Both Qin and Lincoln violated establish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ocial values in pursuit of greater political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conomic, and social goal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3543480" cy="3298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1730520" cy="2685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715000" y="3886200"/>
            <a:ext cx="198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1974:  First pit discovered, 689 feet long and 197 feet wide, containing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over 6,000 clay soldiers, Horses, chariots, in trenches from 14 to 21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Feet deep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533412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9080" cy="6467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114800" cy="3230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35360" y="3846600"/>
            <a:ext cx="34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74:  Pit #2 discovered, with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,400 warriors, horses, and 6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hariots, 64,000 square fee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4520" y="4876920"/>
            <a:ext cx="316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80:  Pit #3, much smaller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Discovered, with 1 chariot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6 warriors, and weap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0560" y="59436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omb mound of Qin himsel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ot yet excavat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hina during Warring States perio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22600" cy="4496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164920" y="15350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480-221 B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2514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Victory of Qin  Shi-huangdi -- 221 BCE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5334120" cy="3776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9920" y="5294160"/>
            <a:ext cx="71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If the whole world has suffered from unceasing warfare, this i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e fault of feudal lords and kings.  Thanks to my ancestors, t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mpire has been pacified for the first time.”  -- Qin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56120" y="1584360"/>
            <a:ext cx="18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hi: First dynast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79800" y="2346480"/>
            <a:ext cx="206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Huang: Thre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gendary rulers a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awn of Chin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46400" y="3897360"/>
            <a:ext cx="202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Di:  5 legendary king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Who followed the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huang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chievements of Qin Shuang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8960" y="1243080"/>
            <a:ext cx="695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– Unification of China through defeat or rival armies and dismantling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aristocratic system of control by feudal lord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0120" y="2004840"/>
            <a:ext cx="667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– Creation of districts to replace feudal kingdoms, each with 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Political leader and a military leader (with political leader in control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2640" y="2843280"/>
            <a:ext cx="611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– Protection of new unified China through completion of th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eat Wall”, 1500 miles long and linking previous wall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3295800" cy="2205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360240" y="3581280"/>
            <a:ext cx="431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– Standardization of language, currency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ismantling barriers between district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And uniformity of road and axle width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41840" y="4672080"/>
            <a:ext cx="34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– Creation of vast road and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Canal network to speed economic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ow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49680" y="5927760"/>
            <a:ext cx="34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– Ordered construction of one of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World’s most magnificent tomb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trocities of Qin Shuangi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60" y="1166760"/>
            <a:ext cx="670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- High taxes and forced labor from millions of peasants, man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whom died building Great Wall, roads, canals, and other project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360" y="2743200"/>
            <a:ext cx="653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- Hostility to Confucian thought and historical writing, leading t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estruction of all literature not sanctioned by Qin, an inestimabl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oss of knowledg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9160" y="3794040"/>
            <a:ext cx="50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- Burial and execution of 460 Confucian scholar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2081160" cy="2438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736360" y="4327560"/>
            <a:ext cx="45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- Arbitrary and cruel executions of official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uch as generals beheaded for arriving lat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o meeting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26120" y="5510160"/>
            <a:ext cx="473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- Spread of a climate of fear and terror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ading to revolt and fall of Qin’s new kingdom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oon after his dea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1560" y="1889280"/>
            <a:ext cx="73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- Extreme hardship on peasants left on the land, with much of their crop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aken in taxes and so many others taken awa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62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39:44Z</dcterms:created>
  <dc:creator>harrisr</dc:creator>
  <dc:description/>
  <dc:language>en-US</dc:language>
  <cp:lastModifiedBy>Staff</cp:lastModifiedBy>
  <dcterms:modified xsi:type="dcterms:W3CDTF">2008-04-21T20:40:44Z</dcterms:modified>
  <cp:revision>9</cp:revision>
  <dc:subject/>
  <dc:title>Slide 1</dc:title>
</cp:coreProperties>
</file>