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0.jpeg" ContentType="image/jpeg"/>
  <Override PartName="/ppt/media/image44.png" ContentType="image/png"/>
  <Override PartName="/ppt/media/image13.jpeg" ContentType="image/jpeg"/>
  <Override PartName="/ppt/media/image45.png" ContentType="image/png"/>
  <Override PartName="/ppt/media/image6.jpeg" ContentType="image/jpeg"/>
  <Override PartName="/ppt/media/image46.jpeg" ContentType="image/jpeg"/>
  <Override PartName="/ppt/media/image30.jpeg" ContentType="image/jpeg"/>
  <Override PartName="/ppt/media/image24.jpeg" ContentType="image/jpeg"/>
  <Override PartName="/ppt/media/image47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7A7C-7E22-4CFB-A89C-3B49964B2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F7EF-E299-492B-AAAE-0DCC9A564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BC6D-95A2-4A31-B44A-E8D00A64F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EA7A-D88E-400D-81C0-264B372E9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6EB7E9-4127-40D2-BDFD-363A9AD01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DA8552-BC48-42BA-8577-F72743C50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BC03F4-CA5D-4DED-B9D8-722B0ED9F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ABE013-64BA-4DD8-AEEA-43FD75455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D86E54-2B05-486A-B809-0787D7B04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5C16B2-3F18-45A1-9387-68B68DC3B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9988CC-3FB4-4E4E-8E98-649EAC15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308D-FBFE-4ADB-A365-495D0C01A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5BACD0-02F8-45B4-8A63-DD2C81EC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E51224-C99C-498A-94A4-D544CF2E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67F4F9-9F22-45BC-90BA-1BC93B938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0AB63D-4391-482F-AC47-7FBECCB07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38041D-84B4-405A-92D8-F8F5291A7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D35B8-0222-4CA4-8E82-43E864CAF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1C106-D609-420C-8698-1853CEBAD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39E9D-186B-4B92-B3C8-857DC7BB6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DD26C-985E-421B-83F9-6BE539782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F88E9-20B2-4309-98EA-3A297FAD2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49DB-CF49-43D3-AFC3-AD68AC1D8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2FEF2-5C3F-41C4-B89D-BBCF3DCFF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09C7C-B3B3-44E7-809E-1A6710AD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BD51B-CCEB-45A8-94FA-F8CFE3A2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0867A-9A0A-4B20-8F80-A8FFE449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72050-E503-46D9-BF56-5C9FE1BDC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82DC8-FD68-44BC-94E4-7EBE59269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45E28-4A63-45AD-88D5-ABBF2AD89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9A343-BCAA-4178-825C-9659C76CE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D87C1-1EED-49EA-9D3B-080A9FD3C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A7B20-996B-4B0E-B46A-E7A5B8C54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A525-ECB0-4DA8-88EC-C0A72FA85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00523-7E04-4354-B7CE-DA29A257E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34141-CB85-4A12-83D8-FC30737B8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63206-B945-445B-A086-4629E2709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972EF-B1BD-4934-B659-9AFC5F71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CF3AA-6FF6-4E2E-9AFE-9FE575D5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5663A-48DC-4D51-A3BF-F9FAFFBC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019C5-ED13-4C1B-8AE1-AE727804A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7A78D-8DE9-40B5-A7DC-82BA19237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3ADF5-A61D-4142-975A-5BE8C3ACE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8C3FD-9C45-464B-9848-1AA08AD88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ED15-DD05-4B81-AB5A-6B64EDA2C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3F49D-FDDC-48AD-999D-D340FAFAB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2E9CC-7D42-4137-9C59-9BB4AD203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271E5-540F-4971-9C4F-B96EE355A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A8319-88E1-4482-A017-27B71D49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E9A78-800E-40B8-B55B-43C0BE4EF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C8FB9-3CC6-4954-A580-B274BA00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B7AC4-0315-441A-B4B4-A58746CE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24EF5-E86A-4CD5-A104-848F57E4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4D337-E1FC-4E9E-AE71-181B36750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0B819-9E3C-4999-B1C8-BB0E9F0BC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7A9B-FFE3-474D-90FE-EE5C4D79D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BF666-14BE-4734-9140-0522B5667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5E368-3133-48BF-9B19-B728B7751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76F68-3DDD-4582-A43A-F0C5BCC56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8A8564-DE1D-401E-B7D8-1AC475ADE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DADA2-E7A8-4CE7-825E-B02094D86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EAF5F-6AEB-47ED-B19E-6E63D68D8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4897E-E8F2-4FB2-B15F-26A55FD98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E64F2-F9DC-469D-A176-133A95E3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CFB15A-FF2D-441F-986F-B623093E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5313E-8D88-426D-84C5-DADE26F1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D86C-E623-43D5-8E75-93B165F5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5A4F7-1F62-4B2D-A915-A8B4259EE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669A0-5BD1-4C73-B407-BFC5F7122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E241B1-24C8-4A0C-88AB-2D86F89C1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61D7D-91E9-41A6-AC21-5961368AA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2F01C-65B1-446A-AC0A-3BCA6B8B8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958A70-1F78-4C30-BDD6-9E05AE26D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D68C2-4039-48CA-9C9F-B8BADF66B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A0D43-BC3C-4BB2-BAAA-61716BE44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FFBB71-7682-4322-8085-4304D057A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1D9398-AC2C-4F28-87A3-8B3998E9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0191-7FA9-456F-B419-EA145707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FB9F6-5EAB-48B9-8A34-CB423B58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D69F12-2037-4F22-A26A-2E7DD30F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910CC-5F06-4E7E-835E-CEAB7DB98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1AEDA5-40D0-4CFB-9350-63C904E67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B777D9-C806-4B75-81E2-2422B37FE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20A257-829F-4BF9-A6E0-98570D314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B7FF21-F33A-433D-A3AB-110320C36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6A8288-23CC-42D1-9A3B-F33AB23F5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15CE72-0A69-48C5-B2D0-22982BDF4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4F3E6-12C3-4DD7-B2C3-BF853129A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D03F-44B3-408C-AA27-65DA1188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8AB242-4B91-43B5-930E-1C09F683D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C39393-E6A8-4E6C-86C7-A9BC1ED0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7D70C7-C395-49FC-8D67-1D6A63E3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B59464-A067-4427-A881-86735347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60283B-D38C-48F1-8BD4-D180CB1CF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F25C1-195F-41A8-B2FD-5D5F71623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61730-1A9A-40E0-83E6-2667F5D97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9290A-EF56-40BC-83A8-F56D938926CE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23E08-C8E3-4EDA-9E09-36CACC3439F2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341280" y="928800"/>
            <a:ext cx="8433000" cy="17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457200" y="817560"/>
            <a:ext cx="8229600" cy="1173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" name="Picture 14" descr="TitleSlideTop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357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TitleSlideBottom.jpg"/>
          <p:cNvPicPr/>
          <p:nvPr/>
        </p:nvPicPr>
        <p:blipFill>
          <a:blip r:embed="rId3"/>
          <a:stretch/>
        </p:blipFill>
        <p:spPr>
          <a:xfrm>
            <a:off x="457200" y="2700360"/>
            <a:ext cx="8229600" cy="3700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D861F-F2C1-4DEB-A3DF-1FC686E8B299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5"/>
          </p:nvPr>
        </p:nvSpPr>
        <p:spPr>
          <a:xfrm>
            <a:off x="4305240" y="649296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9CFB8-0F8E-4870-916B-08DCBA9BD0FB}" type="slidenum">
              <a:rPr b="1" lang="en-US" sz="11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6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326880" y="363600"/>
            <a:ext cx="8439120" cy="25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12" descr="SectionHeaderLeft.jpg"/>
          <p:cNvPicPr/>
          <p:nvPr/>
        </p:nvPicPr>
        <p:blipFill>
          <a:blip r:embed="rId2"/>
          <a:stretch/>
        </p:blipFill>
        <p:spPr>
          <a:xfrm>
            <a:off x="469800" y="457200"/>
            <a:ext cx="2217960" cy="5943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2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13"/>
          <p:cNvSpPr/>
          <p:nvPr/>
        </p:nvSpPr>
        <p:spPr>
          <a:xfrm rot="5400000">
            <a:off x="-223200" y="3369240"/>
            <a:ext cx="5943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7365D-0CE4-4DE5-A731-7DD9F310BBBA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06680" y="6492960"/>
            <a:ext cx="53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DF5E1-83ED-469D-9968-F106A1A31991}" type="slidenum">
              <a:rPr b="1" lang="en-US" sz="11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Straight Connector 10"/>
          <p:cNvSpPr/>
          <p:nvPr/>
        </p:nvSpPr>
        <p:spPr>
          <a:xfrm flipH="1">
            <a:off x="4572000" y="2797200"/>
            <a:ext cx="1440" cy="337500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8F038-B2C5-4AD7-802F-C30EAAFA8864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D995E-D11E-462D-87FC-2922D74EAE39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0"/>
          <p:cNvSpPr/>
          <p:nvPr/>
        </p:nvSpPr>
        <p:spPr>
          <a:xfrm>
            <a:off x="355680" y="566640"/>
            <a:ext cx="8396280" cy="25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457200" y="4572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8CDED-14A7-41F0-A648-E0F94FBA5245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DF04-5C37-4562-B823-9926F88D9816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10"/>
          <p:cNvSpPr/>
          <p:nvPr/>
        </p:nvSpPr>
        <p:spPr>
          <a:xfrm>
            <a:off x="333360" y="566640"/>
            <a:ext cx="84549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Rectangle 12"/>
          <p:cNvSpPr/>
          <p:nvPr/>
        </p:nvSpPr>
        <p:spPr>
          <a:xfrm>
            <a:off x="457200" y="4572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870F-E85D-443C-A72D-43D2A1D527B9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5EBAF-A378-42F3-9813-BF5DEC45CAE8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355680" y="347760"/>
            <a:ext cx="8432640" cy="23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Rectangle 12"/>
          <p:cNvSpPr/>
          <p:nvPr/>
        </p:nvSpPr>
        <p:spPr>
          <a:xfrm rot="5400000">
            <a:off x="5597640" y="3310560"/>
            <a:ext cx="5943600" cy="2365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9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B29B3-CFF7-4500-9B82-CE7DB8DDD5A2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20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21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84FAB-CA79-4732-B135-3EFD892ECD16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0"/>
          <p:cNvSpPr/>
          <p:nvPr/>
        </p:nvSpPr>
        <p:spPr>
          <a:xfrm>
            <a:off x="347760" y="363600"/>
            <a:ext cx="8440560" cy="23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3" name="Picture 12" descr="VerticalRight.jpg"/>
          <p:cNvPicPr/>
          <p:nvPr/>
        </p:nvPicPr>
        <p:blipFill>
          <a:blip r:embed="rId2"/>
          <a:stretch/>
        </p:blipFill>
        <p:spPr>
          <a:xfrm>
            <a:off x="7112160" y="457200"/>
            <a:ext cx="1546200" cy="594360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12"/>
          <p:cNvSpPr/>
          <p:nvPr/>
        </p:nvSpPr>
        <p:spPr>
          <a:xfrm rot="5400000">
            <a:off x="4073760" y="3369240"/>
            <a:ext cx="5943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Rectangle 13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94767-F7B0-4E80-9C85-6CFB3171BBA1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289F1-1029-4153-8297-D120E79B873D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Box 6"/>
          <p:cNvSpPr/>
          <p:nvPr/>
        </p:nvSpPr>
        <p:spPr>
          <a:xfrm>
            <a:off x="4751640" y="3429000"/>
            <a:ext cx="358524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 the two thousand years since the sarse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ad been dragged to Stonehenge, th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Landscape around Sarum had not chang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uch.  Woods of oak and ash, elm an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azel still graced the broad bowl of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Land where the five rivers met.  . . Bu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ere were changes: sheep now grazed 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e sacred precincts where the mellow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rey stones of the henge, still standing 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eir magic circle, were seldom visited an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howed many signs of disrepair.  The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arrows were overgrown with turf, and n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ew ones had been built for generations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. 14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Picture 8" descr="Sarum, mounds.jpg"/>
          <p:cNvPicPr/>
          <p:nvPr/>
        </p:nvPicPr>
        <p:blipFill>
          <a:blip r:embed="rId1"/>
          <a:stretch/>
        </p:blipFill>
        <p:spPr>
          <a:xfrm>
            <a:off x="609480" y="2438280"/>
            <a:ext cx="2806920" cy="21081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1" descr="Stonehenge goodbye.jpg"/>
          <p:cNvPicPr/>
          <p:nvPr/>
        </p:nvPicPr>
        <p:blipFill>
          <a:blip r:embed="rId2"/>
          <a:stretch/>
        </p:blipFill>
        <p:spPr>
          <a:xfrm>
            <a:off x="1066680" y="304920"/>
            <a:ext cx="2722680" cy="20476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3" descr="Sarum, woods.jpg"/>
          <p:cNvPicPr/>
          <p:nvPr/>
        </p:nvPicPr>
        <p:blipFill>
          <a:blip r:embed="rId3"/>
          <a:stretch/>
        </p:blipFill>
        <p:spPr>
          <a:xfrm>
            <a:off x="4038480" y="609480"/>
            <a:ext cx="3353040" cy="25210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4" descr="Sheep at Sarum.jpg"/>
          <p:cNvPicPr/>
          <p:nvPr/>
        </p:nvPicPr>
        <p:blipFill>
          <a:blip r:embed="rId4"/>
          <a:stretch/>
        </p:blipFill>
        <p:spPr>
          <a:xfrm>
            <a:off x="1905120" y="4800600"/>
            <a:ext cx="2179440" cy="16351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8F32A-F32B-46E7-8080-C5909B2F8607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DFF6C-B81E-44E1-8225-778835007FEC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7" name="Picture 5" descr="Gilcreaseclub08.JPG.jpeg"/>
          <p:cNvPicPr/>
          <p:nvPr/>
        </p:nvPicPr>
        <p:blipFill>
          <a:blip r:embed="rId1"/>
          <a:stretch/>
        </p:blipFill>
        <p:spPr>
          <a:xfrm>
            <a:off x="4343400" y="533520"/>
            <a:ext cx="3645000" cy="27558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6" descr="ptscty55aclr2.jpg"/>
          <p:cNvPicPr/>
          <p:nvPr/>
        </p:nvPicPr>
        <p:blipFill>
          <a:blip r:embed="rId2"/>
          <a:stretch/>
        </p:blipFill>
        <p:spPr>
          <a:xfrm>
            <a:off x="4952880" y="3505320"/>
            <a:ext cx="3048120" cy="246384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8" descr="BigRamey.JPG.jpeg"/>
          <p:cNvPicPr/>
          <p:nvPr/>
        </p:nvPicPr>
        <p:blipFill>
          <a:blip r:embed="rId3"/>
          <a:stretch/>
        </p:blipFill>
        <p:spPr>
          <a:xfrm>
            <a:off x="685800" y="685800"/>
            <a:ext cx="2833560" cy="20559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9" descr="pttech36clr2.jpg"/>
          <p:cNvPicPr/>
          <p:nvPr/>
        </p:nvPicPr>
        <p:blipFill>
          <a:blip r:embed="rId4"/>
          <a:stretch/>
        </p:blipFill>
        <p:spPr>
          <a:xfrm>
            <a:off x="762120" y="3352680"/>
            <a:ext cx="3365280" cy="2603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0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8026C-C51D-4854-B29F-94C21B8D91F1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D4772-6E8B-4B23-B069-EA25FF1DECA3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3" name="Picture 3" descr="birger.jpg"/>
          <p:cNvPicPr/>
          <p:nvPr/>
        </p:nvPicPr>
        <p:blipFill>
          <a:blip r:embed="rId1"/>
          <a:stretch/>
        </p:blipFill>
        <p:spPr>
          <a:xfrm>
            <a:off x="380880" y="533520"/>
            <a:ext cx="2976840" cy="32875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4" descr="birger2.jpg"/>
          <p:cNvPicPr/>
          <p:nvPr/>
        </p:nvPicPr>
        <p:blipFill>
          <a:blip r:embed="rId2"/>
          <a:stretch/>
        </p:blipFill>
        <p:spPr>
          <a:xfrm>
            <a:off x="6248520" y="3276720"/>
            <a:ext cx="2539800" cy="30985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5" descr="Birger3.jpg"/>
          <p:cNvPicPr/>
          <p:nvPr/>
        </p:nvPicPr>
        <p:blipFill>
          <a:blip r:embed="rId3"/>
          <a:stretch/>
        </p:blipFill>
        <p:spPr>
          <a:xfrm>
            <a:off x="3657600" y="1371600"/>
            <a:ext cx="2540160" cy="31240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719FE-6126-4C3C-B480-584C03337DDF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374B8-EADE-491A-82BC-C6BBD3CB6EE9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8" name="Picture 9" descr="images-4.jpeg"/>
          <p:cNvPicPr/>
          <p:nvPr/>
        </p:nvPicPr>
        <p:blipFill>
          <a:blip r:embed="rId1"/>
          <a:stretch/>
        </p:blipFill>
        <p:spPr>
          <a:xfrm>
            <a:off x="6400800" y="2971800"/>
            <a:ext cx="2031840" cy="24512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0" descr="images-3.jpeg"/>
          <p:cNvPicPr/>
          <p:nvPr/>
        </p:nvPicPr>
        <p:blipFill>
          <a:blip r:embed="rId2"/>
          <a:stretch/>
        </p:blipFill>
        <p:spPr>
          <a:xfrm>
            <a:off x="4038480" y="914400"/>
            <a:ext cx="1835280" cy="32767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2" descr="peetBirdman.gif"/>
          <p:cNvPicPr/>
          <p:nvPr/>
        </p:nvPicPr>
        <p:blipFill>
          <a:blip r:embed="rId3"/>
          <a:stretch/>
        </p:blipFill>
        <p:spPr>
          <a:xfrm>
            <a:off x="609480" y="990720"/>
            <a:ext cx="3283200" cy="52578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17170-CC70-4D68-86BF-2A5C5B96E5C7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C633F-88E1-4905-864D-3E8A83745D06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3" name="Picture 3" descr="CahokiaWoodhenge.gif"/>
          <p:cNvPicPr/>
          <p:nvPr/>
        </p:nvPicPr>
        <p:blipFill>
          <a:blip r:embed="rId1"/>
          <a:stretch/>
        </p:blipFill>
        <p:spPr>
          <a:xfrm>
            <a:off x="3809880" y="990720"/>
            <a:ext cx="4687920" cy="35812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5" descr="explore_centralpalisades.jpg"/>
          <p:cNvPicPr/>
          <p:nvPr/>
        </p:nvPicPr>
        <p:blipFill>
          <a:blip r:embed="rId2"/>
          <a:stretch/>
        </p:blipFill>
        <p:spPr>
          <a:xfrm>
            <a:off x="762120" y="533520"/>
            <a:ext cx="2271600" cy="22604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6" descr="Palisade1.JPG.jpeg"/>
          <p:cNvPicPr/>
          <p:nvPr/>
        </p:nvPicPr>
        <p:blipFill>
          <a:blip r:embed="rId3"/>
          <a:stretch/>
        </p:blipFill>
        <p:spPr>
          <a:xfrm>
            <a:off x="762120" y="3200400"/>
            <a:ext cx="2889000" cy="21668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Box 6"/>
          <p:cNvSpPr/>
          <p:nvPr/>
        </p:nvSpPr>
        <p:spPr>
          <a:xfrm>
            <a:off x="4284360" y="2971800"/>
            <a:ext cx="4586760" cy="33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small wooded hill which stood guardia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o the valley had been completely transforme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t had been a promontory really, a natur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ump jutting out of the high ground; but several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enturies ago, the old promontory had bee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craped bare and round the entire summit of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ome thirty acres, two massive banks of eart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nd chalk had been thrown up, with a deep ditc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etween them.  The lightly wooded hill ha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een transformed into a bold, bare mound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ather unsightly, with a steep slope on eve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ide. . . The people of Sarum, using a Celtc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erm, called this fortress the dune.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. 14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5" descr="Sarum hill.jpg"/>
          <p:cNvPicPr/>
          <p:nvPr/>
        </p:nvPicPr>
        <p:blipFill>
          <a:blip r:embed="rId1"/>
          <a:stretch/>
        </p:blipFill>
        <p:spPr>
          <a:xfrm>
            <a:off x="380880" y="228600"/>
            <a:ext cx="3759480" cy="28195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Sarum hill with sign.jpg"/>
          <p:cNvPicPr/>
          <p:nvPr/>
        </p:nvPicPr>
        <p:blipFill>
          <a:blip r:embed="rId2"/>
          <a:stretch/>
        </p:blipFill>
        <p:spPr>
          <a:xfrm>
            <a:off x="4648320" y="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0" descr="Sarum ditch.jpg"/>
          <p:cNvPicPr/>
          <p:nvPr/>
        </p:nvPicPr>
        <p:blipFill>
          <a:blip r:embed="rId3"/>
          <a:stretch/>
        </p:blipFill>
        <p:spPr>
          <a:xfrm>
            <a:off x="304920" y="3505320"/>
            <a:ext cx="3759120" cy="28191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8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Date Placeholder 3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FFF17-C99A-4F03-92B9-C92CC336C4B6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Slide Number Placeholder 4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37DAE-BF43-4A70-813D-7CBAAA1CA82F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8" name="Picture 5" descr="US_tribes_map.jpg"/>
          <p:cNvPicPr/>
          <p:nvPr/>
        </p:nvPicPr>
        <p:blipFill>
          <a:blip r:embed="rId1"/>
          <a:stretch/>
        </p:blipFill>
        <p:spPr>
          <a:xfrm>
            <a:off x="457200" y="380880"/>
            <a:ext cx="5079960" cy="3784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7" descr="images-7.jpeg"/>
          <p:cNvPicPr/>
          <p:nvPr/>
        </p:nvPicPr>
        <p:blipFill>
          <a:blip r:embed="rId2"/>
          <a:stretch/>
        </p:blipFill>
        <p:spPr>
          <a:xfrm>
            <a:off x="1523880" y="4419720"/>
            <a:ext cx="1695600" cy="169524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8" descr="images-6.jpeg"/>
          <p:cNvPicPr/>
          <p:nvPr/>
        </p:nvPicPr>
        <p:blipFill>
          <a:blip r:embed="rId3"/>
          <a:stretch/>
        </p:blipFill>
        <p:spPr>
          <a:xfrm>
            <a:off x="6172200" y="457200"/>
            <a:ext cx="1668600" cy="17208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3" descr="images-2.jpeg"/>
          <p:cNvPicPr/>
          <p:nvPr/>
        </p:nvPicPr>
        <p:blipFill>
          <a:blip r:embed="rId4"/>
          <a:stretch/>
        </p:blipFill>
        <p:spPr>
          <a:xfrm>
            <a:off x="5867280" y="2362320"/>
            <a:ext cx="2095560" cy="16128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5" descr="tunica.jpg"/>
          <p:cNvPicPr/>
          <p:nvPr/>
        </p:nvPicPr>
        <p:blipFill>
          <a:blip r:embed="rId5"/>
          <a:stretch/>
        </p:blipFill>
        <p:spPr>
          <a:xfrm>
            <a:off x="4800600" y="4267080"/>
            <a:ext cx="3241800" cy="22082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77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770" fill="hold"/>
                                        <p:tgtEl>
                                          <p:spTgt spid="3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" dur="77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" dur="77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00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1FEBA-0E57-48A2-B757-6C2364246ED3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4" name="Picture 5" descr="cahokia mounds_5 ENHANCED.jpg"/>
          <p:cNvPicPr/>
          <p:nvPr/>
        </p:nvPicPr>
        <p:blipFill>
          <a:blip r:embed="rId1"/>
          <a:stretch/>
        </p:blipFill>
        <p:spPr>
          <a:xfrm>
            <a:off x="609480" y="3124080"/>
            <a:ext cx="3829320" cy="2373480"/>
          </a:xfrm>
          <a:prstGeom prst="rect">
            <a:avLst/>
          </a:prstGeom>
          <a:ln w="0">
            <a:noFill/>
          </a:ln>
        </p:spPr>
      </p:pic>
      <p:sp>
        <p:nvSpPr>
          <p:cNvPr id="375" name="TextBox 7"/>
          <p:cNvSpPr/>
          <p:nvPr/>
        </p:nvSpPr>
        <p:spPr>
          <a:xfrm>
            <a:off x="533520" y="5410080"/>
            <a:ext cx="46080" cy="22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250: Cahokia numbered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bout 20,000, largest city in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North America until Philadelphi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n 180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6" name="Picture 8" descr="Cahokia_village.jpeg"/>
          <p:cNvPicPr/>
          <p:nvPr/>
        </p:nvPicPr>
        <p:blipFill>
          <a:blip r:embed="rId2"/>
          <a:stretch/>
        </p:blipFill>
        <p:spPr>
          <a:xfrm>
            <a:off x="685800" y="990720"/>
            <a:ext cx="3878280" cy="14475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6" descr="images-2.jpeg"/>
          <p:cNvPicPr/>
          <p:nvPr/>
        </p:nvPicPr>
        <p:blipFill>
          <a:blip r:embed="rId3"/>
          <a:stretch/>
        </p:blipFill>
        <p:spPr>
          <a:xfrm>
            <a:off x="4724280" y="1523880"/>
            <a:ext cx="4038840" cy="3321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BFA78-6823-426B-9D31-6E9C7F6BEBF5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9" name="Picture 3" descr="Indian migration.jpg"/>
          <p:cNvPicPr/>
          <p:nvPr/>
        </p:nvPicPr>
        <p:blipFill>
          <a:blip r:embed="rId1"/>
          <a:stretch/>
        </p:blipFill>
        <p:spPr>
          <a:xfrm>
            <a:off x="304920" y="762120"/>
            <a:ext cx="3733560" cy="4959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6" descr="Mississippiancultures_map_HRoe_2008.jpg"/>
          <p:cNvPicPr/>
          <p:nvPr/>
        </p:nvPicPr>
        <p:blipFill>
          <a:blip r:embed="rId2"/>
          <a:stretch/>
        </p:blipFill>
        <p:spPr>
          <a:xfrm>
            <a:off x="4343400" y="990720"/>
            <a:ext cx="4048200" cy="4317840"/>
          </a:xfrm>
          <a:prstGeom prst="rect">
            <a:avLst/>
          </a:prstGeom>
          <a:ln w="0">
            <a:noFill/>
          </a:ln>
        </p:spPr>
      </p:pic>
      <p:sp>
        <p:nvSpPr>
          <p:cNvPr id="381" name="TextBox 7"/>
          <p:cNvSpPr/>
          <p:nvPr/>
        </p:nvSpPr>
        <p:spPr>
          <a:xfrm>
            <a:off x="4615920" y="5638680"/>
            <a:ext cx="399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600 BCE: Development of farming in th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dwest, with growth of population an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ttled citi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 thruBlk="true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94150-E400-4203-94E0-7676ED47DDCA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04595-3144-4DF6-9C69-0C7F57113C8A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4" name="Picture 3" descr="AdenaHopewellMissMap.jpg"/>
          <p:cNvPicPr/>
          <p:nvPr/>
        </p:nvPicPr>
        <p:blipFill>
          <a:blip r:embed="rId1"/>
          <a:stretch/>
        </p:blipFill>
        <p:spPr>
          <a:xfrm>
            <a:off x="380880" y="762120"/>
            <a:ext cx="4419720" cy="458316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4"/>
          <p:cNvSpPr/>
          <p:nvPr/>
        </p:nvSpPr>
        <p:spPr>
          <a:xfrm>
            <a:off x="609480" y="54864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600 C.E.: Mound building age begins, to continue until about 13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6" name="Picture 6" descr="93538-004-1B84B585.jpg"/>
          <p:cNvPicPr/>
          <p:nvPr/>
        </p:nvPicPr>
        <p:blipFill>
          <a:blip r:embed="rId2"/>
          <a:stretch/>
        </p:blipFill>
        <p:spPr>
          <a:xfrm>
            <a:off x="5257800" y="838080"/>
            <a:ext cx="3195720" cy="22719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7" descr="300px-Chromesun_kincaid_site_01.jpg"/>
          <p:cNvPicPr/>
          <p:nvPr/>
        </p:nvPicPr>
        <p:blipFill>
          <a:blip r:embed="rId3"/>
          <a:stretch/>
        </p:blipFill>
        <p:spPr>
          <a:xfrm>
            <a:off x="5181480" y="3352680"/>
            <a:ext cx="3062520" cy="2438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6B591-8C97-4D7F-8F67-481B22AAE9CC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072E8-35F2-454E-913C-0474974A4C48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0" name="Picture 3" descr="84499-004-017BFB9F.jpg"/>
          <p:cNvPicPr/>
          <p:nvPr/>
        </p:nvPicPr>
        <p:blipFill>
          <a:blip r:embed="rId1"/>
          <a:stretch/>
        </p:blipFill>
        <p:spPr>
          <a:xfrm>
            <a:off x="1295280" y="762120"/>
            <a:ext cx="6222960" cy="4128840"/>
          </a:xfrm>
          <a:prstGeom prst="rect">
            <a:avLst/>
          </a:prstGeom>
          <a:ln w="0">
            <a:noFill/>
          </a:ln>
        </p:spPr>
      </p:pic>
      <p:sp>
        <p:nvSpPr>
          <p:cNvPr id="391" name="TextBox 4"/>
          <p:cNvSpPr/>
          <p:nvPr/>
        </p:nvSpPr>
        <p:spPr>
          <a:xfrm>
            <a:off x="992520" y="5257800"/>
            <a:ext cx="731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reat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erpen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Mound: Built about 1075 C.E., in present-day Ohio; alm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¼ mile long or 1,330 feet; serpent’s head aligns with sunset on the summ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lstice.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 thruBlk="true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79F00-A169-4441-805F-D411FAE3FA2F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2BBB0-C452-48A4-BA70-5B19621AE08B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4" name="Picture 4" descr="cahokia-mounds-b_w-web.gif"/>
          <p:cNvPicPr/>
          <p:nvPr/>
        </p:nvPicPr>
        <p:blipFill>
          <a:blip r:embed="rId1"/>
          <a:stretch/>
        </p:blipFill>
        <p:spPr>
          <a:xfrm>
            <a:off x="533520" y="228600"/>
            <a:ext cx="4778280" cy="38862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5" descr="images-1.jpeg"/>
          <p:cNvPicPr/>
          <p:nvPr/>
        </p:nvPicPr>
        <p:blipFill>
          <a:blip r:embed="rId2"/>
          <a:stretch/>
        </p:blipFill>
        <p:spPr>
          <a:xfrm>
            <a:off x="5486400" y="457200"/>
            <a:ext cx="2941560" cy="23907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7" descr="Cahokia2.jpg"/>
          <p:cNvPicPr/>
          <p:nvPr/>
        </p:nvPicPr>
        <p:blipFill>
          <a:blip r:embed="rId3"/>
          <a:stretch/>
        </p:blipFill>
        <p:spPr>
          <a:xfrm>
            <a:off x="380880" y="4191120"/>
            <a:ext cx="5104080" cy="16858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8" descr="cahokia--300x300.jpg"/>
          <p:cNvPicPr/>
          <p:nvPr/>
        </p:nvPicPr>
        <p:blipFill>
          <a:blip r:embed="rId4"/>
          <a:stretch/>
        </p:blipFill>
        <p:spPr>
          <a:xfrm>
            <a:off x="5715000" y="297180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398" name="TextBox 7"/>
          <p:cNvSpPr/>
          <p:nvPr/>
        </p:nvSpPr>
        <p:spPr>
          <a:xfrm>
            <a:off x="1122480" y="6172200"/>
            <a:ext cx="406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20 mounds built from 940 to 1200 C.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 thruBlk="true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2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5937E-0C6D-4E17-9CC0-7A7602382B65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2B1D7-2D67-42BC-8E2C-765A214DBFD5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1" name="Picture 3" descr="Cahokia - Mound 72.jpg"/>
          <p:cNvPicPr/>
          <p:nvPr/>
        </p:nvPicPr>
        <p:blipFill>
          <a:blip r:embed="rId1"/>
          <a:stretch/>
        </p:blipFill>
        <p:spPr>
          <a:xfrm>
            <a:off x="533520" y="762120"/>
            <a:ext cx="3598920" cy="19810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4" descr="Cahokia  - Mound 72 burial skeletons.jpg"/>
          <p:cNvPicPr/>
          <p:nvPr/>
        </p:nvPicPr>
        <p:blipFill>
          <a:blip r:embed="rId2"/>
          <a:stretch/>
        </p:blipFill>
        <p:spPr>
          <a:xfrm>
            <a:off x="6248520" y="685800"/>
            <a:ext cx="2298600" cy="30891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5" descr="Cahokia - Mound 72 decapitted bodies.jpg"/>
          <p:cNvPicPr/>
          <p:nvPr/>
        </p:nvPicPr>
        <p:blipFill>
          <a:blip r:embed="rId3"/>
          <a:stretch/>
        </p:blipFill>
        <p:spPr>
          <a:xfrm>
            <a:off x="762120" y="3276720"/>
            <a:ext cx="2206440" cy="26175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6" descr="Cahokia - Man buried on shells.jpg"/>
          <p:cNvPicPr/>
          <p:nvPr/>
        </p:nvPicPr>
        <p:blipFill>
          <a:blip r:embed="rId4"/>
          <a:stretch/>
        </p:blipFill>
        <p:spPr>
          <a:xfrm>
            <a:off x="3352680" y="3962520"/>
            <a:ext cx="2857680" cy="19047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13:06:36Z</dcterms:created>
  <dc:creator/>
  <dc:description/>
  <dc:language>en-US</dc:language>
  <cp:lastModifiedBy>Robert Harrison</cp:lastModifiedBy>
  <cp:lastPrinted>2001-04-17T22:19:08Z</cp:lastPrinted>
  <dcterms:modified xsi:type="dcterms:W3CDTF">2011-10-17T15:30:03Z</dcterms:modified>
  <cp:revision>67</cp:revision>
  <dc:subject/>
  <dc:title>PowerPoint Presentation</dc:title>
</cp:coreProperties>
</file>