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AF78C-B468-468B-AA56-A43A36CC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FD06-41DE-42D2-A637-F99685DA8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E4B9-6DDF-4BE3-A527-AD44B3508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89F8F-632C-4FDC-B071-FA076180A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C04B1-1D46-4807-94BA-4337DA0F77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A194A-41D4-4195-A7AB-824E3AC58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89A58-E2C7-4473-A43B-C3AC6B61E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2356-D71E-4D08-9546-518708546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89B42-C45E-4FFC-A41B-5D1DF0249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D93B8-5BE4-498C-8220-32AB23E37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88ED7-FCC9-438F-8985-446D2462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F529-BE00-4A40-9B17-10FCBC47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66AE7-C9FB-4DE1-8102-9DAEE71E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269A6-A7D3-4776-84AA-2BDABF9AF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F9D52-A7A5-4A0B-9C8F-FEE2F7A96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B7508-E7F8-489F-96D1-319AA556E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6C82B-E9F9-4F7A-A786-E4537D9B4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7E41-E256-4C98-8793-6E0BABB1E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A706-E9A0-487D-8370-F6C80F1B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415A6-8C1E-4B50-9962-08D4F13F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60FB9-08EE-468F-B18D-DBD8854C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B51B-C12C-45C1-A18C-A97BB3F1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10EB-CC8C-415B-89FC-EE41743A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82209-D506-4782-8317-0E3FDE677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EA61-97D9-4E9A-BB69-314494C88F8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0B37-68C3-4E5C-BD08-080ABD8ABAB5}"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w</p:attrName>
                                        </p:attrNameLst>
                                      </p:cBhvr>
                                      <p:tavLst>
                                        <p:tav tm="0">
                                          <p:val>
                                            <p:strVal val="#ppt_w*0.70"/>
                                          </p:val>
                                        </p:tav>
                                        <p:tav tm="100000">
                                          <p:val>
                                            <p:strVal val="#ppt_w"/>
                                          </p:val>
                                        </p:tav>
                                      </p:tavLst>
                                    </p:anim>
                                    <p:anim calcmode="lin" valueType="num">
                                      <p:cBhvr additive="repl">
                                        <p:cTn id="8" dur="1000" fill="hold"/>
                                        <p:tgtEl>
                                          <p:spTgt spid="117"/>
                                        </p:tgtEl>
                                        <p:attrNameLst>
                                          <p:attrName>ppt_h</p:attrName>
                                        </p:attrNameLst>
                                      </p:cBhvr>
                                      <p:tavLst>
                                        <p:tav tm="0">
                                          <p:val>
                                            <p:strVal val="#ppt_h"/>
                                          </p:val>
                                        </p:tav>
                                        <p:tav tm="100000">
                                          <p:val>
                                            <p:strVal val="#ppt_h"/>
                                          </p:val>
                                        </p:tav>
                                      </p:tavLst>
                                    </p:anim>
                                    <p:animEffect filter="fade" transition="in">
                                      <p:cBhvr additive="repl">
                                        <p:cTn id="9" dur="1000"/>
                                        <p:tgtEl>
                                          <p:spTgt spid="11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18"/>
                                        </p:tgtEl>
                                        <p:attrNameLst>
                                          <p:attrName>style.visibility</p:attrName>
                                        </p:attrNameLst>
                                      </p:cBhvr>
                                      <p:to>
                                        <p:strVal val="visible"/>
                                      </p:to>
                                    </p:set>
                                    <p:animEffect filter="circle(in)" transition="in">
                                      <p:cBhvr additive="repl">
                                        <p:cTn id="14" dur="2000"/>
                                        <p:tgtEl>
                                          <p:spTgt spid="1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1000"/>
                                        <p:tgtEl>
                                          <p:spTgt spid="119"/>
                                        </p:tgtEl>
                                      </p:cBhvr>
                                    </p:animEffect>
                                    <p:anim calcmode="lin" valueType="num">
                                      <p:cBhvr additive="repl">
                                        <p:cTn id="20" dur="1000" fill="hold"/>
                                        <p:tgtEl>
                                          <p:spTgt spid="119"/>
                                        </p:tgtEl>
                                        <p:attrNameLst>
                                          <p:attrName>ppt_x</p:attrName>
                                        </p:attrNameLst>
                                      </p:cBhvr>
                                      <p:tavLst>
                                        <p:tav tm="0">
                                          <p:val>
                                            <p:strVal val="#ppt_x"/>
                                          </p:val>
                                        </p:tav>
                                        <p:tav tm="100000">
                                          <p:val>
                                            <p:strVal val="#ppt_x"/>
                                          </p:val>
                                        </p:tav>
                                      </p:tavLst>
                                    </p:anim>
                                    <p:anim calcmode="lin" valueType="num">
                                      <p:cBhvr additive="repl">
                                        <p:cTn id="2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