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22B9-5144-4869-B379-27E6F5D8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F50C-0682-4DF3-A4D6-5FFD8486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911-0FDD-43E9-A2D2-BF6A55B9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3847-E00C-4E4F-B257-F87FFFD2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CFCE-C3BB-467A-BA83-C29AD134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DC9D-0EFB-45C9-A892-5497BCA0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97D6-E93A-4CEB-802B-9A239100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D2DC-F43E-4169-89B5-4175E31A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F0C0-FCDE-45FA-913B-529AD07B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761F-DB9F-4FD9-88AD-97AF5FA8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08F1-B691-4E24-BB24-0F8A0307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9811-5B5B-477B-A656-985B23ED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A15E-E6F1-43FB-8D74-4D753995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6BD0-6A7E-4F6F-8792-72296B19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FBB9-ADA3-4EC7-BD8F-025BD102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12AD-52C4-4CA9-BA15-F1724EEF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AE8B-1BE9-47EF-AA24-81E79EDB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F33A-CBC0-4471-A62D-EB151DD8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CC1-1C5E-4BD4-9365-A6D1B647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06C5-7524-437C-B06E-09B515E6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B804-4228-4205-92B0-62DCD1E0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62D-63AB-4555-916D-7F1211B5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44A-C3A8-4BAC-8746-CA23D873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400D-97F2-43A0-B8E4-42C963C5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2351-9076-4793-9D0B-168CA1CA3BA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2F9F-154E-40BE-875F-9D3ADA7301D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s: A New Tradi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Greeks%20--%20Ancient%20Greece,%20good%20map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3792240" cy="4267080"/>
          </a:xfrm>
          <a:prstGeom prst="rect">
            <a:avLst/>
          </a:prstGeom>
          <a:ln w="0">
            <a:noFill/>
          </a:ln>
        </p:spPr>
      </p:pic>
      <p:pic>
        <p:nvPicPr>
          <p:cNvPr id="92" name="Greeks%20--%20Daedalus%20with%20Icarus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0639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llenistic Sculpture: Laoco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2" name="Greeks%20--%20Laocoon%20sculpture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0292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Greeks%20--%20Theatre%20of%20Dionysus,%20ruin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phocles: Oedipus and Antigo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6" name="Greeks%20--%20Theatre%20of%20Dionysus%20from%20spectator's%20view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Greeks%20--%20Actors%20with%20masks%20mosaic" descr=""/>
          <p:cNvPicPr/>
          <p:nvPr/>
        </p:nvPicPr>
        <p:blipFill>
          <a:blip r:embed="rId2"/>
          <a:stretch/>
        </p:blipFill>
        <p:spPr>
          <a:xfrm>
            <a:off x="0" y="2895480"/>
            <a:ext cx="3809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4" name="Greeks%20--%20Odssey,%20map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95" name="Greeks%20--%20Wooden%20horse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96" name="Greeks%20--%20The%20Cyclops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Greeks%20--%20Scylla" descr="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Civilization: the Classical Spirit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9" name="Greeks%20--%20Map%20of%20Greece%20%23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3386160"/>
          </a:xfrm>
          <a:prstGeom prst="rect">
            <a:avLst/>
          </a:prstGeom>
          <a:ln w="0">
            <a:noFill/>
          </a:ln>
        </p:spPr>
      </p:pic>
      <p:pic>
        <p:nvPicPr>
          <p:cNvPr id="100" name="Ancient%20Near%20East%20trade%20routes%20map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40053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Art and Architec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57%20chevy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429000" cy="1965240"/>
          </a:xfrm>
          <a:prstGeom prst="rect">
            <a:avLst/>
          </a:prstGeom>
          <a:ln w="0">
            <a:noFill/>
          </a:ln>
        </p:spPr>
      </p:pic>
      <p:pic>
        <p:nvPicPr>
          <p:cNvPr id="103" name="Gone%20with%20the%20Wind%20poster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2820960" cy="4534200"/>
          </a:xfrm>
          <a:prstGeom prst="rect">
            <a:avLst/>
          </a:prstGeom>
          <a:ln w="0">
            <a:noFill/>
          </a:ln>
        </p:spPr>
      </p:pic>
      <p:pic>
        <p:nvPicPr>
          <p:cNvPr id="104" name="Babe%20Ruth" descr=""/>
          <p:cNvPicPr/>
          <p:nvPr/>
        </p:nvPicPr>
        <p:blipFill>
          <a:blip r:embed="rId3"/>
          <a:stretch/>
        </p:blipFill>
        <p:spPr>
          <a:xfrm>
            <a:off x="1828800" y="3809880"/>
            <a:ext cx="2214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arly Greek sculpture: the “Kouros” and “Kore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Greeks%20--%20Kouros,%20%232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868400" cy="4719600"/>
          </a:xfrm>
          <a:prstGeom prst="rect">
            <a:avLst/>
          </a:prstGeom>
          <a:ln w="0">
            <a:noFill/>
          </a:ln>
        </p:spPr>
      </p:pic>
      <p:pic>
        <p:nvPicPr>
          <p:cNvPr id="107" name="Greeks%20--%20Kore,%20490%20BCE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966760" cy="4267080"/>
          </a:xfrm>
          <a:prstGeom prst="rect">
            <a:avLst/>
          </a:prstGeom>
          <a:ln w="0">
            <a:noFill/>
          </a:ln>
        </p:spPr>
      </p:pic>
      <p:pic>
        <p:nvPicPr>
          <p:cNvPr id="108" name="Egypt%20--%20Akhenaton%20statue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1600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Naturalism: “Kritian” Boy and “Discobolus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Greeks%20--%20Kritian%20boy" descr=""/>
          <p:cNvPicPr/>
          <p:nvPr/>
        </p:nvPicPr>
        <p:blipFill>
          <a:blip r:embed="rId1"/>
          <a:stretch/>
        </p:blipFill>
        <p:spPr>
          <a:xfrm>
            <a:off x="1447920" y="1967040"/>
            <a:ext cx="2293920" cy="4890960"/>
          </a:xfrm>
          <a:prstGeom prst="rect">
            <a:avLst/>
          </a:prstGeom>
          <a:ln w="0">
            <a:noFill/>
          </a:ln>
        </p:spPr>
      </p:pic>
      <p:pic>
        <p:nvPicPr>
          <p:cNvPr id="111" name="Greeks%20--%20Discus%20thrower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assical Architecture: Parthen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Greeks%20--%20Parthenon,%20image%20%231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451400" cy="3233880"/>
          </a:xfrm>
          <a:prstGeom prst="rect">
            <a:avLst/>
          </a:prstGeom>
          <a:ln w="0">
            <a:noFill/>
          </a:ln>
        </p:spPr>
      </p:pic>
      <p:pic>
        <p:nvPicPr>
          <p:cNvPr id="114" name="Greeks%20--%20Acropolis%20and%20theatre,%20aerial%20view" descr=""/>
          <p:cNvPicPr/>
          <p:nvPr/>
        </p:nvPicPr>
        <p:blipFill>
          <a:blip r:embed="rId2"/>
          <a:stretch/>
        </p:blipFill>
        <p:spPr>
          <a:xfrm>
            <a:off x="0" y="1905120"/>
            <a:ext cx="4648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 Sculptures: Pediments and Freiz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Greeks%20--%20Parthenon,%20freize%20depiction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87760" cy="3268800"/>
          </a:xfrm>
          <a:prstGeom prst="rect">
            <a:avLst/>
          </a:prstGeom>
          <a:ln w="0">
            <a:noFill/>
          </a:ln>
        </p:spPr>
      </p:pic>
      <p:pic>
        <p:nvPicPr>
          <p:cNvPr id="117" name="Greeks%20--%20Parthenon%20pediment%20sculpture" descr=""/>
          <p:cNvPicPr/>
          <p:nvPr/>
        </p:nvPicPr>
        <p:blipFill>
          <a:blip r:embed="rId2"/>
          <a:stretch/>
        </p:blipFill>
        <p:spPr>
          <a:xfrm>
            <a:off x="0" y="3624120"/>
            <a:ext cx="45626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: Statue of Athe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Greeks%20--%20parthenon,%20statue%20of%20Athena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50540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Greeks%20--%20parthenon,%20original%20appearance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477036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faculty</cp:lastModifiedBy>
  <dcterms:modified xsi:type="dcterms:W3CDTF">2005-03-15T02:12:42Z</dcterms:modified>
  <cp:revision>3</cp:revision>
  <dc:subject/>
  <dc:title>    Greek Art and Architecture</dc:title>
</cp:coreProperties>
</file>