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797B-2127-4F7C-B630-39A7C9F9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BA61-BE8F-4F8C-85E7-75806354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03D4-4409-4BB0-87EA-6AEFBD49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BA10-44E3-48F9-8AD1-1E714A49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C53C1-0480-406E-8DDA-42DCB582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4C3A2-8271-4CE6-BBCB-B49D8822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57334-0918-432C-B254-B80C2880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D5EF7-E220-410B-9C36-DE8D0FE3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E9667-89FB-462C-B55C-7E797EC9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5109F-919D-4AD5-AF20-AB777193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22C61-1F78-4A61-943F-B63D62FB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E89-3E4F-48A2-9E96-FC065C3F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9FA1A-0280-4F56-A41C-FDF8A7E6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8EC7D-EABE-4D57-B3CE-17843B60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556E7-1881-44F2-9724-A1AFBCA7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6645C-80A9-4634-80F9-4FEE5377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3B8AB-8D71-4404-A4A3-84201B1E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8C4C5-A377-4BB2-A7B8-3295968B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DF6FA-7081-4BD5-8F9C-0580CE6E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80B2C-2DE0-40DE-80CC-2E281C50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24DA6-F9B8-4347-BA3A-EB5929F0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E8BDA-152F-4A19-B170-E907FD48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3075-5563-48E8-9EB9-FC8A1BD7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9BA8F-A508-4BE3-8DCE-A1C73728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187B7-2C6F-42B9-812E-A60BC538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5A359-BD4A-46AD-B4D5-2814FE05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A040F-0D35-4185-8C82-A046C895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D8A9C-C45D-4AD2-8C36-9338A1DE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101AE-886C-4B6F-B7A6-0F5AC245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AD855-B0B3-4331-A66F-F70F5B0C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A8685-7541-4A3B-941B-D093C988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4E18F-E8BC-458B-9FDC-5D2033F8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08E2C-8C8A-4AD5-9D7C-D250A954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5B46-CA1D-40CF-A9F7-B2C0EACD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CFC28-9AB3-46A2-8BEE-49FB64C5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5CDF3-0E2D-4C94-A259-B5DBDB86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4DC38-0DCD-45C5-B034-DFBF3457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CA30B-2E51-4D34-B267-550A8EA2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557B7-7350-42B8-BE21-39BBD726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6947E-DF71-479D-B8EC-17C476D9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B3283-DACB-46A5-8EC8-98185C46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BD9A7-58EB-4886-8CFA-4AC10878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46253-A813-49AD-8145-DAA7DE49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D53CA-0DC3-499B-A7B5-6E6D1587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3420-0274-44A2-B1C4-9FC1B91E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BB970-76FF-4D72-933E-A6A1A2B2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C0789-5A3B-4AC9-B6ED-696B0451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E8ABD-4D0E-44BC-905E-26E39045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B78AD-C378-446C-8BB7-BC89490C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275AB-9AE4-4356-8832-121E429F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CD2F6-B5FF-40F1-A77D-89CCED9C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CB5F2-0429-40BE-8018-1C750237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CA2C9-DCAC-42BA-A3E5-3B6328FA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1C11F-BA04-4864-B10E-CB321E85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F11A5-1E71-422E-9B39-D1F956E1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6169-7ED4-4DCD-AAE3-179811D4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298B6-880E-48A9-A81D-E7BCE9F0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7528F-5D65-4078-B62B-BA0D375E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14B62-9371-43A3-9545-39C408A2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F066B-FD0A-4006-88F2-0B0E3CF0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467A5-6293-45CD-AA9E-56CC74B5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70EB2-0167-4D53-BE15-9CDFBC16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DEDCD-15F9-40D0-9D9F-CE3F1C14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0A246-6037-45D6-A5E2-BE8458AD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6D9B3-5D50-4743-87BA-A593C411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8C230-53CA-4577-A78A-431CBC94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C8DF-CA81-400E-8386-359E86FE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9300E-F24A-4472-924D-5C026C60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F41CC-15E7-4D79-85F4-07F1B419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73706-26CB-4311-8A09-709B1498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981A2-8032-465A-8905-6EA9F0A2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6B432-D915-4D0C-AFCF-380519FC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7D0E9-3D57-4133-84D3-F06A7853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17627-5575-4EF4-B6FD-7C007F69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92107-C99D-4835-BC53-C41C4088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FB819-A941-42EB-A3C8-AE15E4E1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080E1-17D9-4CC1-9BBF-AF919C71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7AB4-9A66-411F-8DAE-6B3ABE49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E52AA-1222-43EC-8A50-354578C8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82176-70DF-4553-90A9-50569C62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99093-9057-4533-A6D2-0A969E05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D0CBB-A056-42F1-9AAB-95529624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B6614-7321-42EC-8E1C-B62856D6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95AC6-F685-45C6-9832-8555078F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F8B90-CED4-4F78-9481-4C01EA5A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02A72-92BC-452A-934F-C960C5AF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759FF-C2CE-4161-8DC6-73DBEE34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4409C-B4C9-4B45-89B5-D3F5C497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3A85-8E31-4677-8C31-4E262486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06B43-B5BD-4473-AD75-013074AC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4B749-93CC-4454-B854-6A82126E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C41D9-B6B5-4FD6-9905-250C5C81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0AF19-205E-453F-8581-71B417B2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92795-CC26-44AF-B53F-D08135E6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56C6D-1F8F-4115-9DD7-118D091D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DF6C6-F971-45D9-B677-E22A8424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03B2-7B07-44C6-A180-3D5E22EBAB8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C276-6F01-4AE9-9CBF-8F533072B198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0BB5-FA92-4091-8945-BB3B45F3A16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3D14-B8AA-41E7-B770-B33248B6EA32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F9E7-F8F4-4616-820A-610F3E0FF81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F056-CA72-48A0-A82D-3AF64D9B2829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1EB6-707B-4603-9A8A-29AE594EE6A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E096-35B5-4362-809B-56022E3225B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56D4-F8A0-4E48-8122-665F77156E2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A666-D8E6-4C89-B8D5-BBA6C1935F32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C8F9-605B-47AC-ACAE-C3331D1B0A4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2CA6-966D-4F67-95AC-1CA174E925A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0CAB-A002-4B13-B95B-61555DBE129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DC14-124D-4F13-81CF-E43C57756719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64E3-B0F1-4C46-AC99-C00DF8CFC926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AB47-DBAC-4862-B293-4D59D5F31B8C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6"/>
          <p:cNvSpPr/>
          <p:nvPr/>
        </p:nvSpPr>
        <p:spPr>
          <a:xfrm>
            <a:off x="4751640" y="3429000"/>
            <a:ext cx="3585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 the two thousand years since the sarse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d been dragged to Stonehenge, th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scape around Sarum had not chang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ch.  Woods of oak and ash, elm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el still graced the broad bowl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 where the five rivers met.  . . B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re were changes: sheep now graz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sacred precincts where the mello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ey stones of the henge, still standing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ir magic circle, were seldom visited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owed many signs of disrepair.  Th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rrows were overgrown with turf, and n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w ones had been built for generations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8" descr="Sarum, mounds.jpg"/>
          <p:cNvPicPr/>
          <p:nvPr/>
        </p:nvPicPr>
        <p:blipFill>
          <a:blip r:embed="rId1"/>
          <a:stretch/>
        </p:blipFill>
        <p:spPr>
          <a:xfrm>
            <a:off x="609480" y="2438280"/>
            <a:ext cx="2806920" cy="21081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Stonehenge goodbye.jpg"/>
          <p:cNvPicPr/>
          <p:nvPr/>
        </p:nvPicPr>
        <p:blipFill>
          <a:blip r:embed="rId2"/>
          <a:stretch/>
        </p:blipFill>
        <p:spPr>
          <a:xfrm>
            <a:off x="1066680" y="304920"/>
            <a:ext cx="2722680" cy="2047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" descr="Sarum, woods.jpg"/>
          <p:cNvPicPr/>
          <p:nvPr/>
        </p:nvPicPr>
        <p:blipFill>
          <a:blip r:embed="rId3"/>
          <a:stretch/>
        </p:blipFill>
        <p:spPr>
          <a:xfrm>
            <a:off x="4038480" y="609480"/>
            <a:ext cx="3353040" cy="2521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Sheep at Sarum.jpg"/>
          <p:cNvPicPr/>
          <p:nvPr/>
        </p:nvPicPr>
        <p:blipFill>
          <a:blip r:embed="rId4"/>
          <a:stretch/>
        </p:blipFill>
        <p:spPr>
          <a:xfrm>
            <a:off x="1905120" y="4800600"/>
            <a:ext cx="2179440" cy="163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B911-A04E-4240-9FE2-46DFA684214F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50CA-F36C-4A0A-8172-3F5B84D6E3E0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5" descr="Gilcreaseclub08.JPG.jpeg"/>
          <p:cNvPicPr/>
          <p:nvPr/>
        </p:nvPicPr>
        <p:blipFill>
          <a:blip r:embed="rId1"/>
          <a:stretch/>
        </p:blipFill>
        <p:spPr>
          <a:xfrm>
            <a:off x="4343400" y="533520"/>
            <a:ext cx="3645000" cy="2755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ptscty55aclr2.jpg"/>
          <p:cNvPicPr/>
          <p:nvPr/>
        </p:nvPicPr>
        <p:blipFill>
          <a:blip r:embed="rId2"/>
          <a:stretch/>
        </p:blipFill>
        <p:spPr>
          <a:xfrm>
            <a:off x="4952880" y="3505320"/>
            <a:ext cx="3048120" cy="2463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BigRamey.JPG.jpeg"/>
          <p:cNvPicPr/>
          <p:nvPr/>
        </p:nvPicPr>
        <p:blipFill>
          <a:blip r:embed="rId3"/>
          <a:stretch/>
        </p:blipFill>
        <p:spPr>
          <a:xfrm>
            <a:off x="685800" y="685800"/>
            <a:ext cx="2833560" cy="2055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pttech36clr2.jpg"/>
          <p:cNvPicPr/>
          <p:nvPr/>
        </p:nvPicPr>
        <p:blipFill>
          <a:blip r:embed="rId4"/>
          <a:stretch/>
        </p:blipFill>
        <p:spPr>
          <a:xfrm>
            <a:off x="762120" y="3352680"/>
            <a:ext cx="3365280" cy="260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2A66-1192-47C0-9C21-8087A44518D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F60F-418D-4198-AA5A-652E966F233F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Picture 3" descr="birger.jpg"/>
          <p:cNvPicPr/>
          <p:nvPr/>
        </p:nvPicPr>
        <p:blipFill>
          <a:blip r:embed="rId1"/>
          <a:stretch/>
        </p:blipFill>
        <p:spPr>
          <a:xfrm>
            <a:off x="380880" y="533520"/>
            <a:ext cx="2976840" cy="3287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birger2.jpg"/>
          <p:cNvPicPr/>
          <p:nvPr/>
        </p:nvPicPr>
        <p:blipFill>
          <a:blip r:embed="rId2"/>
          <a:stretch/>
        </p:blipFill>
        <p:spPr>
          <a:xfrm>
            <a:off x="6248520" y="3276720"/>
            <a:ext cx="2539800" cy="3098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Birger3.jpg"/>
          <p:cNvPicPr/>
          <p:nvPr/>
        </p:nvPicPr>
        <p:blipFill>
          <a:blip r:embed="rId3"/>
          <a:stretch/>
        </p:blipFill>
        <p:spPr>
          <a:xfrm>
            <a:off x="3657600" y="1371600"/>
            <a:ext cx="254016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6F7A-87D7-46D6-A1A3-E59EE8937F5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A46C-3789-4A45-ADF7-BE1144DD9BD0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Picture 9" descr="images-4.jpeg"/>
          <p:cNvPicPr/>
          <p:nvPr/>
        </p:nvPicPr>
        <p:blipFill>
          <a:blip r:embed="rId1"/>
          <a:stretch/>
        </p:blipFill>
        <p:spPr>
          <a:xfrm>
            <a:off x="6400800" y="2971800"/>
            <a:ext cx="2031840" cy="2451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0" descr="images-3.jpeg"/>
          <p:cNvPicPr/>
          <p:nvPr/>
        </p:nvPicPr>
        <p:blipFill>
          <a:blip r:embed="rId2"/>
          <a:stretch/>
        </p:blipFill>
        <p:spPr>
          <a:xfrm>
            <a:off x="4038480" y="914400"/>
            <a:ext cx="1835280" cy="3276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2" descr="peetBirdman.gif"/>
          <p:cNvPicPr/>
          <p:nvPr/>
        </p:nvPicPr>
        <p:blipFill>
          <a:blip r:embed="rId3"/>
          <a:stretch/>
        </p:blipFill>
        <p:spPr>
          <a:xfrm>
            <a:off x="609480" y="990720"/>
            <a:ext cx="32832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ABFC-DFC1-4F78-A5F5-DF601A0ADF6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7947-C9DC-4811-A26C-C9A1A6EC8871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3" name="Picture 3" descr="CahokiaWoodhenge.gif"/>
          <p:cNvPicPr/>
          <p:nvPr/>
        </p:nvPicPr>
        <p:blipFill>
          <a:blip r:embed="rId1"/>
          <a:stretch/>
        </p:blipFill>
        <p:spPr>
          <a:xfrm>
            <a:off x="3809880" y="990720"/>
            <a:ext cx="4687920" cy="3581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explore_centralpalisades.jpg"/>
          <p:cNvPicPr/>
          <p:nvPr/>
        </p:nvPicPr>
        <p:blipFill>
          <a:blip r:embed="rId2"/>
          <a:stretch/>
        </p:blipFill>
        <p:spPr>
          <a:xfrm>
            <a:off x="762120" y="533520"/>
            <a:ext cx="2271600" cy="2260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Palisade1.JPG.jpeg"/>
          <p:cNvPicPr/>
          <p:nvPr/>
        </p:nvPicPr>
        <p:blipFill>
          <a:blip r:embed="rId3"/>
          <a:stretch/>
        </p:blipFill>
        <p:spPr>
          <a:xfrm>
            <a:off x="762120" y="3200400"/>
            <a:ext cx="2889000" cy="2166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8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6"/>
          <p:cNvSpPr/>
          <p:nvPr/>
        </p:nvSpPr>
        <p:spPr>
          <a:xfrm>
            <a:off x="4284360" y="2971800"/>
            <a:ext cx="458676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small wooded hill which stood guardi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the valley had been completely transform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t had been a promontory really, a natur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ump jutting out of the high ground; but severa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enturies ago, the old promontory had be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raped bare and round the entire summit of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me thirty acres, two massive banks of ear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d chalk had been thrown up, with a deep dit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tween them.  The lightly wooded hill h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en transformed into a bold, bare mound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ather unsightly, with a steep slope on eve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de. . . The people of Sarum, using a Celt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rm, called this fortress the dune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5" descr="Sarum hill.jpg"/>
          <p:cNvPicPr/>
          <p:nvPr/>
        </p:nvPicPr>
        <p:blipFill>
          <a:blip r:embed="rId1"/>
          <a:stretch/>
        </p:blipFill>
        <p:spPr>
          <a:xfrm>
            <a:off x="380880" y="228600"/>
            <a:ext cx="3759480" cy="2819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Sarum hill with sign.jpg"/>
          <p:cNvPicPr/>
          <p:nvPr/>
        </p:nvPicPr>
        <p:blipFill>
          <a:blip r:embed="rId2"/>
          <a:stretch/>
        </p:blipFill>
        <p:spPr>
          <a:xfrm>
            <a:off x="46483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Sarum ditch.jpg"/>
          <p:cNvPicPr/>
          <p:nvPr/>
        </p:nvPicPr>
        <p:blipFill>
          <a:blip r:embed="rId3"/>
          <a:stretch/>
        </p:blipFill>
        <p:spPr>
          <a:xfrm>
            <a:off x="304920" y="3505320"/>
            <a:ext cx="37591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9FD2-23A3-425C-89C2-87CEE208CFF1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5CA6-8230-4AB7-B49B-7DDCFD9189B5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US_tribes_map.jpg"/>
          <p:cNvPicPr/>
          <p:nvPr/>
        </p:nvPicPr>
        <p:blipFill>
          <a:blip r:embed="rId1"/>
          <a:stretch/>
        </p:blipFill>
        <p:spPr>
          <a:xfrm>
            <a:off x="457200" y="380880"/>
            <a:ext cx="5079960" cy="3784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images-7.jpeg"/>
          <p:cNvPicPr/>
          <p:nvPr/>
        </p:nvPicPr>
        <p:blipFill>
          <a:blip r:embed="rId2"/>
          <a:stretch/>
        </p:blipFill>
        <p:spPr>
          <a:xfrm>
            <a:off x="1523880" y="4419720"/>
            <a:ext cx="1695600" cy="16952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images-6.jpeg"/>
          <p:cNvPicPr/>
          <p:nvPr/>
        </p:nvPicPr>
        <p:blipFill>
          <a:blip r:embed="rId3"/>
          <a:stretch/>
        </p:blipFill>
        <p:spPr>
          <a:xfrm>
            <a:off x="6172200" y="457200"/>
            <a:ext cx="1668600" cy="17208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images-2.jpeg"/>
          <p:cNvPicPr/>
          <p:nvPr/>
        </p:nvPicPr>
        <p:blipFill>
          <a:blip r:embed="rId4"/>
          <a:stretch/>
        </p:blipFill>
        <p:spPr>
          <a:xfrm>
            <a:off x="5867280" y="2362320"/>
            <a:ext cx="2095560" cy="1612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tunica.jpg"/>
          <p:cNvPicPr/>
          <p:nvPr/>
        </p:nvPicPr>
        <p:blipFill>
          <a:blip r:embed="rId5"/>
          <a:stretch/>
        </p:blipFill>
        <p:spPr>
          <a:xfrm>
            <a:off x="4800600" y="4267080"/>
            <a:ext cx="324180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E2FA-F85A-4BC4-A2D7-C269B885F90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cahokia mounds_5 ENHANCED.jpg"/>
          <p:cNvPicPr/>
          <p:nvPr/>
        </p:nvPicPr>
        <p:blipFill>
          <a:blip r:embed="rId1"/>
          <a:stretch/>
        </p:blipFill>
        <p:spPr>
          <a:xfrm>
            <a:off x="609480" y="3124080"/>
            <a:ext cx="3829320" cy="23734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7"/>
          <p:cNvSpPr/>
          <p:nvPr/>
        </p:nvSpPr>
        <p:spPr>
          <a:xfrm>
            <a:off x="533520" y="5410080"/>
            <a:ext cx="46080" cy="22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50: Cahokia numbere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bout 20,000, largest city i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th America until Philadelph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 18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8" descr="Cahokia_village.jpeg"/>
          <p:cNvPicPr/>
          <p:nvPr/>
        </p:nvPicPr>
        <p:blipFill>
          <a:blip r:embed="rId2"/>
          <a:stretch/>
        </p:blipFill>
        <p:spPr>
          <a:xfrm>
            <a:off x="685800" y="990720"/>
            <a:ext cx="3878280" cy="1447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images-2.jpeg"/>
          <p:cNvPicPr/>
          <p:nvPr/>
        </p:nvPicPr>
        <p:blipFill>
          <a:blip r:embed="rId3"/>
          <a:stretch/>
        </p:blipFill>
        <p:spPr>
          <a:xfrm>
            <a:off x="4724280" y="1523880"/>
            <a:ext cx="403884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08DF-4AEA-46AA-A9EA-E0C46C3860B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3" descr="Indian migration.jpg"/>
          <p:cNvPicPr/>
          <p:nvPr/>
        </p:nvPicPr>
        <p:blipFill>
          <a:blip r:embed="rId1"/>
          <a:stretch/>
        </p:blipFill>
        <p:spPr>
          <a:xfrm>
            <a:off x="304920" y="762120"/>
            <a:ext cx="3733560" cy="4959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Mississippiancultures_map_HRoe_2008.jpg"/>
          <p:cNvPicPr/>
          <p:nvPr/>
        </p:nvPicPr>
        <p:blipFill>
          <a:blip r:embed="rId2"/>
          <a:stretch/>
        </p:blipFill>
        <p:spPr>
          <a:xfrm>
            <a:off x="4343400" y="990720"/>
            <a:ext cx="4048200" cy="4317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7"/>
          <p:cNvSpPr/>
          <p:nvPr/>
        </p:nvSpPr>
        <p:spPr>
          <a:xfrm>
            <a:off x="4615920" y="5638680"/>
            <a:ext cx="399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00 BCE: Development of farming in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west, with growth of population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tled c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3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76F5-024C-4C99-94A9-4E8E57421E3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711A-C2CD-4B19-BAEA-7B257E62A54C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Picture 3" descr="AdenaHopewellMissMap.jpg"/>
          <p:cNvPicPr/>
          <p:nvPr/>
        </p:nvPicPr>
        <p:blipFill>
          <a:blip r:embed="rId1"/>
          <a:stretch/>
        </p:blipFill>
        <p:spPr>
          <a:xfrm>
            <a:off x="380880" y="762120"/>
            <a:ext cx="4419720" cy="45831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609480" y="5486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00 C.E.: Mound building age begins, to continue until about 13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6" descr="93538-004-1B84B585.jpg"/>
          <p:cNvPicPr/>
          <p:nvPr/>
        </p:nvPicPr>
        <p:blipFill>
          <a:blip r:embed="rId2"/>
          <a:stretch/>
        </p:blipFill>
        <p:spPr>
          <a:xfrm>
            <a:off x="5257800" y="838080"/>
            <a:ext cx="3195720" cy="2271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300px-Chromesun_kincaid_site_01.jpg"/>
          <p:cNvPicPr/>
          <p:nvPr/>
        </p:nvPicPr>
        <p:blipFill>
          <a:blip r:embed="rId3"/>
          <a:stretch/>
        </p:blipFill>
        <p:spPr>
          <a:xfrm>
            <a:off x="5181480" y="3352680"/>
            <a:ext cx="30625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FA95-A132-478E-AA62-BF17AC2B2CC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B35C-F80D-4EA9-85E8-B8E49832A55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3" descr="84499-004-017BFB9F.jpg"/>
          <p:cNvPicPr/>
          <p:nvPr/>
        </p:nvPicPr>
        <p:blipFill>
          <a:blip r:embed="rId1"/>
          <a:stretch/>
        </p:blipFill>
        <p:spPr>
          <a:xfrm>
            <a:off x="1295280" y="762120"/>
            <a:ext cx="6222960" cy="41288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2520" y="5257800"/>
            <a:ext cx="731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at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rpe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ound: Built about 1075 C.E., in present-day Ohio; alm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¼ mile long or 1,330 feet; serpent’s head aligns with sunset on the summ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lstice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F22E-8D9A-4405-9029-6B35C86A4F5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C15C-55AC-4419-B074-E68D4EA5022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4" descr="cahokia-mounds-b_w-web.gif"/>
          <p:cNvPicPr/>
          <p:nvPr/>
        </p:nvPicPr>
        <p:blipFill>
          <a:blip r:embed="rId1"/>
          <a:stretch/>
        </p:blipFill>
        <p:spPr>
          <a:xfrm>
            <a:off x="533520" y="228600"/>
            <a:ext cx="4778280" cy="3886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images-1.jpeg"/>
          <p:cNvPicPr/>
          <p:nvPr/>
        </p:nvPicPr>
        <p:blipFill>
          <a:blip r:embed="rId2"/>
          <a:stretch/>
        </p:blipFill>
        <p:spPr>
          <a:xfrm>
            <a:off x="5486400" y="457200"/>
            <a:ext cx="2941560" cy="2390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Cahokia2.jpg"/>
          <p:cNvPicPr/>
          <p:nvPr/>
        </p:nvPicPr>
        <p:blipFill>
          <a:blip r:embed="rId3"/>
          <a:stretch/>
        </p:blipFill>
        <p:spPr>
          <a:xfrm>
            <a:off x="380880" y="4191120"/>
            <a:ext cx="5104080" cy="1685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cahokia--300x300.jpg"/>
          <p:cNvPicPr/>
          <p:nvPr/>
        </p:nvPicPr>
        <p:blipFill>
          <a:blip r:embed="rId4"/>
          <a:stretch/>
        </p:blipFill>
        <p:spPr>
          <a:xfrm>
            <a:off x="5715000" y="2971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7"/>
          <p:cNvSpPr/>
          <p:nvPr/>
        </p:nvSpPr>
        <p:spPr>
          <a:xfrm>
            <a:off x="1122480" y="6172200"/>
            <a:ext cx="406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0 mounds built from 940 to 1200 C.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A05D-059A-4A8A-8BC1-F29C0178A2F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1A17-0C52-4A51-9015-CC355A71864F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1" name="Picture 3" descr="Cahokia - Mound 72.jpg"/>
          <p:cNvPicPr/>
          <p:nvPr/>
        </p:nvPicPr>
        <p:blipFill>
          <a:blip r:embed="rId1"/>
          <a:stretch/>
        </p:blipFill>
        <p:spPr>
          <a:xfrm>
            <a:off x="533520" y="762120"/>
            <a:ext cx="3598920" cy="1981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ahokia  - Mound 72 burial skeletons.jpg"/>
          <p:cNvPicPr/>
          <p:nvPr/>
        </p:nvPicPr>
        <p:blipFill>
          <a:blip r:embed="rId2"/>
          <a:stretch/>
        </p:blipFill>
        <p:spPr>
          <a:xfrm>
            <a:off x="6248520" y="685800"/>
            <a:ext cx="2298600" cy="3089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Cahokia - Mound 72 decapitted bodies.jpg"/>
          <p:cNvPicPr/>
          <p:nvPr/>
        </p:nvPicPr>
        <p:blipFill>
          <a:blip r:embed="rId3"/>
          <a:stretch/>
        </p:blipFill>
        <p:spPr>
          <a:xfrm>
            <a:off x="762120" y="3276720"/>
            <a:ext cx="2206440" cy="2617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Cahokia - Man buried on shells.jpg"/>
          <p:cNvPicPr/>
          <p:nvPr/>
        </p:nvPicPr>
        <p:blipFill>
          <a:blip r:embed="rId4"/>
          <a:stretch/>
        </p:blipFill>
        <p:spPr>
          <a:xfrm>
            <a:off x="3352680" y="39625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3:06:36Z</dcterms:created>
  <dc:creator/>
  <dc:description/>
  <dc:language>en-US</dc:language>
  <cp:lastModifiedBy>Robert Harrison</cp:lastModifiedBy>
  <cp:lastPrinted>2001-04-17T22:19:08Z</cp:lastPrinted>
  <dcterms:modified xsi:type="dcterms:W3CDTF">2011-10-17T15:30:03Z</dcterms:modified>
  <cp:revision>67</cp:revision>
  <dc:subject/>
  <dc:title>PowerPoint Presentation</dc:title>
</cp:coreProperties>
</file>