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explod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BB4-83CD-4E0D-9F14-0E558FFE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C76-5A94-47CC-9729-C40DC7A0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E40-3B8C-4F4E-A0E8-92E66664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E49-E86C-44F7-8468-FF3A26EF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191A-837F-48AD-9921-ECFD1BD9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7819-1C7F-4ACF-9249-58AAA77D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7EE9-613C-4B54-914D-6E7A46BC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D9A0-3237-4502-9E19-D79F2C0F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A319-A7EA-42A1-A27C-982FE642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3CF5-577B-4E85-A0B2-5BFBB5E2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5A77-A73F-4C6E-91BB-D8211894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93A-7F61-483C-86D9-772C42CE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EC4A-B40D-4EB2-B244-C9079775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93C3-8402-49BF-829C-8B9D39DC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F6C8-128C-447D-A6D3-FD9C720B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F0DE-703D-441E-8B8B-F2AFA887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91B3-29D9-459C-971C-4EB550D9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5DD4-8A83-4C65-B7F4-2FB3EEE0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09B-6FD9-486C-878E-04D23B60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C9A-578D-4EFF-936C-A2FCE255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EBA-900B-4852-A6B8-379F5948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247F-7F68-4103-B6A1-D1CF7C66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616-0E1A-4373-9790-1546E1F3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DE7-285C-489F-8B8A-D0247E2A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A381-8ACD-40FF-B793-3C8E9EF13EB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16D3-AE36-463C-92CC-5AF997BD4AC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oncord Naval Weapons Station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oncord Station - Protest photo"/>
          <p:cNvPicPr/>
          <p:nvPr/>
        </p:nvPicPr>
        <p:blipFill>
          <a:blip r:embed="rId2"/>
          <a:stretch/>
        </p:blipFill>
        <p:spPr>
          <a:xfrm>
            <a:off x="4724280" y="1523880"/>
            <a:ext cx="3784680" cy="2505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33520" y="99072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eptember 1, 1987: Concord Nuclear Weapons S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pic 1.jpg"/>
          <p:cNvPicPr/>
          <p:nvPr/>
        </p:nvPicPr>
        <p:blipFill>
          <a:blip r:embed="rId3"/>
          <a:stretch/>
        </p:blipFill>
        <p:spPr>
          <a:xfrm>
            <a:off x="1066680" y="4133880"/>
            <a:ext cx="293868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 2.jpg"/>
          <p:cNvPicPr/>
          <p:nvPr/>
        </p:nvPicPr>
        <p:blipFill>
          <a:blip r:embed="rId4"/>
          <a:stretch/>
        </p:blipFill>
        <p:spPr>
          <a:xfrm>
            <a:off x="4876920" y="4267080"/>
            <a:ext cx="2793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Greeks -- Theatre of Dionysus, ruin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79320" y="1981080"/>
            <a:ext cx="3531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rama developed fr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itual dances and worsh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Dionysu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, God of w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nd emo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Hubri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”: Tragic flaw cau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ne with great power 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all through iro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Catharsis”: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Vicariou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ication of people wi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racters, leading to relea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emotion and exploration o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flicting issues, especially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dividual vs. the Commun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5" descr="Greeks -- Theatre of Dionysus in Athens"/>
          <p:cNvPicPr/>
          <p:nvPr/>
        </p:nvPicPr>
        <p:blipFill>
          <a:blip r:embed="rId2"/>
          <a:stretch/>
        </p:blipFill>
        <p:spPr>
          <a:xfrm>
            <a:off x="1371600" y="18288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reeks - Antigone, modern poster"/>
          <p:cNvPicPr/>
          <p:nvPr/>
        </p:nvPicPr>
        <p:blipFill>
          <a:blip r:embed="rId1"/>
          <a:stretch/>
        </p:blipFill>
        <p:spPr>
          <a:xfrm>
            <a:off x="228600" y="83808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Greeks - Antigone and Ismene"/>
          <p:cNvPicPr/>
          <p:nvPr/>
        </p:nvPicPr>
        <p:blipFill>
          <a:blip r:embed="rId2"/>
          <a:stretch/>
        </p:blipFill>
        <p:spPr>
          <a:xfrm>
            <a:off x="4343400" y="685800"/>
            <a:ext cx="198288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Greeks - Antigone and Haemon"/>
          <p:cNvPicPr/>
          <p:nvPr/>
        </p:nvPicPr>
        <p:blipFill>
          <a:blip r:embed="rId3"/>
          <a:stretch/>
        </p:blipFill>
        <p:spPr>
          <a:xfrm>
            <a:off x="4191120" y="4038480"/>
            <a:ext cx="3193920" cy="226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reeks - Antigone and Creon"/>
          <p:cNvPicPr/>
          <p:nvPr/>
        </p:nvPicPr>
        <p:blipFill>
          <a:blip r:embed="rId4"/>
          <a:stretch/>
        </p:blipFill>
        <p:spPr>
          <a:xfrm>
            <a:off x="45720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eeks - Oedipus blind"/>
          <p:cNvPicPr/>
          <p:nvPr/>
        </p:nvPicPr>
        <p:blipFill>
          <a:blip r:embed="rId5"/>
          <a:stretch/>
        </p:blipFill>
        <p:spPr>
          <a:xfrm>
            <a:off x="6651720" y="990720"/>
            <a:ext cx="2492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merican Tragedi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3" descr="Nixon, Richard -- on phone"/>
          <p:cNvPicPr/>
          <p:nvPr/>
        </p:nvPicPr>
        <p:blipFill>
          <a:blip r:embed="rId1"/>
          <a:stretch/>
        </p:blipFill>
        <p:spPr>
          <a:xfrm>
            <a:off x="1676520" y="2133720"/>
            <a:ext cx="19396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ewart, Martha - Going to prison"/>
          <p:cNvPicPr/>
          <p:nvPr/>
        </p:nvPicPr>
        <p:blipFill>
          <a:blip r:embed="rId2"/>
          <a:stretch/>
        </p:blipFill>
        <p:spPr>
          <a:xfrm>
            <a:off x="4724280" y="2286000"/>
            <a:ext cx="24577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medy: “Lysistrata” by Aristopha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icture 3" descr="Greeks -- Lysistrata, Rock opera poster"/>
          <p:cNvPicPr/>
          <p:nvPr/>
        </p:nvPicPr>
        <p:blipFill>
          <a:blip r:embed="rId1"/>
          <a:stretch/>
        </p:blipFill>
        <p:spPr>
          <a:xfrm>
            <a:off x="27432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reeks -- Lysistrata, photo from broadway play"/>
          <p:cNvPicPr/>
          <p:nvPr/>
        </p:nvPicPr>
        <p:blipFill>
          <a:blip r:embed="rId2"/>
          <a:stretch/>
        </p:blipFill>
        <p:spPr>
          <a:xfrm>
            <a:off x="304920" y="3429000"/>
            <a:ext cx="2571480" cy="294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reeks -- Peloponnesian war poster"/>
          <p:cNvPicPr/>
          <p:nvPr/>
        </p:nvPicPr>
        <p:blipFill>
          <a:blip r:embed="rId3"/>
          <a:stretch/>
        </p:blipFill>
        <p:spPr>
          <a:xfrm>
            <a:off x="5181480" y="2133720"/>
            <a:ext cx="312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8:33Z</dcterms:created>
  <dc:creator>faculty</dc:creator>
  <dc:description/>
  <dc:language>en-US</dc:language>
  <cp:lastModifiedBy>Robert Harrison</cp:lastModifiedBy>
  <cp:lastPrinted>2009-04-22T19:24:48Z</cp:lastPrinted>
  <dcterms:modified xsi:type="dcterms:W3CDTF">2010-09-16T17:11:06Z</dcterms:modified>
  <cp:revision>61</cp:revision>
  <dc:subject/>
  <dc:title>    Greek Art and Architecture</dc:title>
</cp:coreProperties>
</file>