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2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1825-92B2-4F50-95D3-CE96B400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C17F-5449-4CCE-857E-643933AB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37B9-306E-475B-8C1D-65F6CAEA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9A22-4E3D-4EF7-8074-F80DCD6F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B19C-B0D1-43F5-9F97-2EF497D4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F9A8-5BD6-4A1A-9169-009A72A3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080D-914C-4A23-95EA-291AB10B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B16C-B5BA-4B48-99D4-68E6E9CD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3F28-A591-4906-B301-34A5447E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80A9-D619-4FE5-AAB8-FD1B69C1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85A0-F269-47C3-8113-9F10653E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7689-D739-45BC-96D8-FBC2C66A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6F30-2957-4E88-B270-21B4F424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58C7-7C65-42ED-ACBF-D5E9AED9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E27F-F484-49AE-8B2E-7B21848C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287A-AAD1-48DB-A7BF-00CDE58C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A977-6A98-4394-9669-62A47BD8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293D-F04F-4780-B3FB-E35BC8D7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A908-D4A9-492B-A045-AAF20D5F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7119-A459-405C-A2AE-75F979AA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779E-7D47-4FDC-97EB-DED482B3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71C1-9D5F-4E0E-B409-1EF6F59E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7D8C-8974-4793-ACFC-B4B360DF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E3A8-0744-41DC-855B-E210CBEF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89DF-455B-4FAB-A659-66BDC3AD6EEE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5788-C2C1-4E34-BFB9-9DA3195573A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s: A New Tradi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1" name="Greeks%20--%20Ancient%20Greece,%20good%20map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3792240" cy="4267080"/>
          </a:xfrm>
          <a:prstGeom prst="rect">
            <a:avLst/>
          </a:prstGeom>
          <a:ln w="0">
            <a:noFill/>
          </a:ln>
        </p:spPr>
      </p:pic>
      <p:pic>
        <p:nvPicPr>
          <p:cNvPr id="92" name="Greeks%20--%20Daedalus%20with%20Icarus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0639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ellenistic Sculpture: Laoco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2" name="Greeks%20--%20Laocoon%20sculpture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502920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4" name="Greeks%20--%20Theatre%20of%20Dionysus,%20ruin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91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phocles: Oedipus and Antigo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6" name="Greeks%20--%20Theatre%20of%20Dionysus%20from%20spectator's%20view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Greeks%20--%20Actors%20with%20masks%20mosaic" descr=""/>
          <p:cNvPicPr/>
          <p:nvPr/>
        </p:nvPicPr>
        <p:blipFill>
          <a:blip r:embed="rId2"/>
          <a:stretch/>
        </p:blipFill>
        <p:spPr>
          <a:xfrm>
            <a:off x="0" y="2895480"/>
            <a:ext cx="38098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4" name="Greeks%20--%20Odssey,%20map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95" name="Greeks%20--%20Wooden%20horse" descr="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96" name="Greeks%20--%20The%20Cyclops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97" name="Greeks%20--%20Scylla" descr="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Civilization: the Classical Spirit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9" name="Greeks%20--%20Map%20of%20Greece%20%232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4267080" cy="3386160"/>
          </a:xfrm>
          <a:prstGeom prst="rect">
            <a:avLst/>
          </a:prstGeom>
          <a:ln w="0">
            <a:noFill/>
          </a:ln>
        </p:spPr>
      </p:pic>
      <p:pic>
        <p:nvPicPr>
          <p:cNvPr id="100" name="Ancient%20Near%20East%20trade%20routes%20map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40053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Art and Architect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57%20chevy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429000" cy="1965240"/>
          </a:xfrm>
          <a:prstGeom prst="rect">
            <a:avLst/>
          </a:prstGeom>
          <a:ln w="0">
            <a:noFill/>
          </a:ln>
        </p:spPr>
      </p:pic>
      <p:pic>
        <p:nvPicPr>
          <p:cNvPr id="103" name="Gone%20with%20the%20Wind%20poster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2820960" cy="4534200"/>
          </a:xfrm>
          <a:prstGeom prst="rect">
            <a:avLst/>
          </a:prstGeom>
          <a:ln w="0">
            <a:noFill/>
          </a:ln>
        </p:spPr>
      </p:pic>
      <p:pic>
        <p:nvPicPr>
          <p:cNvPr id="104" name="Babe%20Ruth" descr=""/>
          <p:cNvPicPr/>
          <p:nvPr/>
        </p:nvPicPr>
        <p:blipFill>
          <a:blip r:embed="rId3"/>
          <a:stretch/>
        </p:blipFill>
        <p:spPr>
          <a:xfrm>
            <a:off x="1828800" y="3809880"/>
            <a:ext cx="2214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arly Greek sculpture: the “Kouros” and “Kore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Greeks%20--%20Kouros,%20%232" descr=""/>
          <p:cNvPicPr/>
          <p:nvPr/>
        </p:nvPicPr>
        <p:blipFill>
          <a:blip r:embed="rId1"/>
          <a:stretch/>
        </p:blipFill>
        <p:spPr>
          <a:xfrm>
            <a:off x="6705720" y="1600200"/>
            <a:ext cx="1868400" cy="4719600"/>
          </a:xfrm>
          <a:prstGeom prst="rect">
            <a:avLst/>
          </a:prstGeom>
          <a:ln w="0">
            <a:noFill/>
          </a:ln>
        </p:spPr>
      </p:pic>
      <p:pic>
        <p:nvPicPr>
          <p:cNvPr id="107" name="Greeks%20--%20Kore,%20490%20BCE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2966760" cy="4267080"/>
          </a:xfrm>
          <a:prstGeom prst="rect">
            <a:avLst/>
          </a:prstGeom>
          <a:ln w="0">
            <a:noFill/>
          </a:ln>
        </p:spPr>
      </p:pic>
      <p:pic>
        <p:nvPicPr>
          <p:cNvPr id="108" name="Egypt%20--%20Akhenaton%20statue" descr=""/>
          <p:cNvPicPr/>
          <p:nvPr/>
        </p:nvPicPr>
        <p:blipFill>
          <a:blip r:embed="rId3"/>
          <a:stretch/>
        </p:blipFill>
        <p:spPr>
          <a:xfrm>
            <a:off x="4267080" y="1981080"/>
            <a:ext cx="160020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Naturalism: “Kritian” Boy and “Discobolus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0" name="Greeks%20--%20Kritian%20boy" descr=""/>
          <p:cNvPicPr/>
          <p:nvPr/>
        </p:nvPicPr>
        <p:blipFill>
          <a:blip r:embed="rId1"/>
          <a:stretch/>
        </p:blipFill>
        <p:spPr>
          <a:xfrm>
            <a:off x="1447920" y="1967040"/>
            <a:ext cx="2293920" cy="4890960"/>
          </a:xfrm>
          <a:prstGeom prst="rect">
            <a:avLst/>
          </a:prstGeom>
          <a:ln w="0">
            <a:noFill/>
          </a:ln>
        </p:spPr>
      </p:pic>
      <p:pic>
        <p:nvPicPr>
          <p:cNvPr id="111" name="Greeks%20--%20Discus%20thrower" descr=""/>
          <p:cNvPicPr/>
          <p:nvPr/>
        </p:nvPicPr>
        <p:blipFill>
          <a:blip r:embed="rId2"/>
          <a:stretch/>
        </p:blipFill>
        <p:spPr>
          <a:xfrm>
            <a:off x="3962520" y="259092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assical Architecture: Parthenon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3" name="Greeks%20--%20Parthenon,%20image%20%231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4451400" cy="3233880"/>
          </a:xfrm>
          <a:prstGeom prst="rect">
            <a:avLst/>
          </a:prstGeom>
          <a:ln w="0">
            <a:noFill/>
          </a:ln>
        </p:spPr>
      </p:pic>
      <p:pic>
        <p:nvPicPr>
          <p:cNvPr id="114" name="Greeks%20--%20Acropolis%20and%20theatre,%20aerial%20view" descr=""/>
          <p:cNvPicPr/>
          <p:nvPr/>
        </p:nvPicPr>
        <p:blipFill>
          <a:blip r:embed="rId2"/>
          <a:stretch/>
        </p:blipFill>
        <p:spPr>
          <a:xfrm>
            <a:off x="0" y="1905120"/>
            <a:ext cx="46483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 Sculptures: Pediments and Freiz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Greeks%20--%20Parthenon,%20freize%20depiction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487760" cy="3268800"/>
          </a:xfrm>
          <a:prstGeom prst="rect">
            <a:avLst/>
          </a:prstGeom>
          <a:ln w="0">
            <a:noFill/>
          </a:ln>
        </p:spPr>
      </p:pic>
      <p:pic>
        <p:nvPicPr>
          <p:cNvPr id="117" name="Greeks%20--%20Parthenon%20pediment%20sculpture" descr=""/>
          <p:cNvPicPr/>
          <p:nvPr/>
        </p:nvPicPr>
        <p:blipFill>
          <a:blip r:embed="rId2"/>
          <a:stretch/>
        </p:blipFill>
        <p:spPr>
          <a:xfrm>
            <a:off x="0" y="3624120"/>
            <a:ext cx="45626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: Statue of Athen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Greeks%20--%20parthenon,%20statue%20of%20Athena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4505400" cy="2711520"/>
          </a:xfrm>
          <a:prstGeom prst="rect">
            <a:avLst/>
          </a:prstGeom>
          <a:ln w="0">
            <a:noFill/>
          </a:ln>
        </p:spPr>
      </p:pic>
      <p:pic>
        <p:nvPicPr>
          <p:cNvPr id="120" name="Greeks%20--%20parthenon,%20original%20appearance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477036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faculty</cp:lastModifiedBy>
  <dcterms:modified xsi:type="dcterms:W3CDTF">2005-03-15T02:12:42Z</dcterms:modified>
  <cp:revision>3</cp:revision>
  <dc:subject/>
  <dc:title>    Greek Art and Architecture</dc:title>
</cp:coreProperties>
</file>