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applause.wav" ContentType="audio/x-wav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BAE4-2F29-40F8-94B8-B7A1F523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A1B-5527-4146-9864-AFED7A68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832-51FB-4AE3-AD7F-1968FE13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CBBD-8EA9-4854-9302-C511840F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5BC2-BDCE-42FE-B9F0-98BA6FAD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13EE-68CF-402F-A425-88C22746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029B-FC48-4469-8780-7293A38E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6ADE-8B05-4375-9E5D-9D5566BC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ED2A-764A-4D77-A907-2AF38CB5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8DCE-841A-44CA-9464-91136191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2486-FB3B-4573-9A88-7A8219E2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EA5-9648-4BA0-B48C-E5F7AD0B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DEC0-DF87-4F0D-88F5-8BAD45DB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7563-3256-4EBE-B384-BDAD3B86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E157-62F0-4110-8CE4-099A20D6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7160-C7F9-4E22-AF40-E3F3FB30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F8B1-4D93-4FF8-83E6-75B29481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29CB-D635-4D24-8C08-D502DBA4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4FF2-3093-4E27-AE59-E1FCBDFF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AE44-D0F0-45BE-9D5F-32682DD5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91C-6CF6-4BDF-9A09-BD455350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733-C922-496F-AC19-A7E07B0B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AC2-E4DB-4A72-B1FC-DA9BA726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80C4-BD82-4D67-8D18-0C30F65A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3C21-733D-4FED-AC84-310E53C92CD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DBBC-7A8C-4A7D-9AA0-E46811ECBBB8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09720" cy="2209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3657600" cy="204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1955520" cy="2539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124080" y="2971800"/>
            <a:ext cx="36007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First Emperor of Ch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1908000" cy="2895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40" y="4267080"/>
            <a:ext cx="175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Shuang-d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21-210 B.C.E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egalis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2743200" cy="1922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2092320" cy="3124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17120" y="33526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exander the Grea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36-323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9800" y="47242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Julius Caes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49-44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438280" y="4343400"/>
            <a:ext cx="150660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41000" y="56386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achiavelli: </a:t>
            </a:r>
            <a:r>
              <a:rPr b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The Prince (1513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in and Lincol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1973520" cy="2467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0640" y="4800600"/>
            <a:ext cx="678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 – Both Qin and Lincoln were subject to very different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Historical points of view, with Qin being condemned for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enturies by scholars trained in Confucian ethics, and wit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incoln being condemned by a post-war Southern histori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as cruel tyra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6840" y="1600200"/>
            <a:ext cx="535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 – Both Qin and Lincoln unified their nati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rough war and tremendous bloodshed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Both earning the title of tyrant during their liv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36120" y="2895480"/>
            <a:ext cx="51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 – Both Qin and Lincoln violated establish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ocial values in pursuit of greater political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conomic, and social goal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3543480" cy="3298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1730520" cy="2685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715000" y="3886200"/>
            <a:ext cx="198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1974:  First pit discovered, 689 feet long and 197 feet wide, containing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over 6,000 clay soldiers, Horses, chariots, in trenches from 14 to 2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Feet deep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53341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9080" cy="6467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114800" cy="3230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35360" y="3846600"/>
            <a:ext cx="34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74:  Pit #2 discovered, with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,400 warriors, horses, and 6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hariots, 64,000 square fe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4520" y="4876920"/>
            <a:ext cx="31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80:  Pit #3, much smaller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Discovered, with 1 chariot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6 warriors, and weap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0560" y="59436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omb mound of Qin himsel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ot yet excavat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hina during Warring States perio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22600" cy="4496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164920" y="15350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480-221 B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25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Victory of Qin  Shi-huangdi -- 221 BC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5334120" cy="3776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9920" y="5294160"/>
            <a:ext cx="71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f the whole world has suffered from unceasing warfare, this 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e fault of feudal lords and kings.  Thanks to my ancestors, t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mpire has been pacified for the first time.”  -- Qi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56120" y="158436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hi: First dynast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79800" y="2346480"/>
            <a:ext cx="206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Huang: Thre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gendary rulers a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awn of Chin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46400" y="3897360"/>
            <a:ext cx="20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Di:  5 legendary king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Who followed th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huang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hievements of Qin Shuang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8960" y="1243080"/>
            <a:ext cx="695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– Unification of China through defeat or rival armies and dismantling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aristocratic system of control by feudal lord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0120" y="2004840"/>
            <a:ext cx="667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– Creation of districts to replace feudal kingdoms, each with 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Political leader and a military leader (with political leader in control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2640" y="2843280"/>
            <a:ext cx="611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– Protection of new unified China through completion of th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eat Wall”, 1500 miles long and linking previous wall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3295800" cy="2205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360240" y="3581280"/>
            <a:ext cx="431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– Standardization of language, currency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ismantling barriers between district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And uniformity of road and axle width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41840" y="4672080"/>
            <a:ext cx="34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– Creation of vast road and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Canal network to speed economic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ow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49680" y="592776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– Ordered construction of one of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World’s most magnificent tomb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trocities of Qin Shuangi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60" y="1166760"/>
            <a:ext cx="670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- High taxes and forced labor from millions of peasants, man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whom died building Great Wall, roads, canals, and other project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360" y="2743200"/>
            <a:ext cx="653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- Hostility to Confucian thought and historical writing, leading 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estruction of all literature not sanctioned by Qin, an inestimab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oss of knowledg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9160" y="3794040"/>
            <a:ext cx="50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- Burial and execution of 460 Confucian scholar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2081160" cy="2438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36360" y="4327560"/>
            <a:ext cx="45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- Arbitrary and cruel executions of official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uch as generals beheaded for arriving lat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o meeting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26120" y="5510160"/>
            <a:ext cx="473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- Spread of a climate of fear and terror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ading to revolt and fall of Qin’s new kingdom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oon after his dea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1560" y="1889280"/>
            <a:ext cx="73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- Extreme hardship on peasants left on the land, with much of their crop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aken in taxes and so many others taken awa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39:44Z</dcterms:created>
  <dc:creator>harrisr</dc:creator>
  <dc:description/>
  <dc:language>en-US</dc:language>
  <cp:lastModifiedBy>Staff</cp:lastModifiedBy>
  <dcterms:modified xsi:type="dcterms:W3CDTF">2008-04-21T20:40:44Z</dcterms:modified>
  <cp:revision>9</cp:revision>
  <dc:subject/>
  <dc:title>Slide 1</dc:title>
</cp:coreProperties>
</file>