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CBBF-FCF2-4098-B54D-B0A81E08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D09-B88D-4640-BAAA-C73F4831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4359-A172-4545-9844-7825348C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63FD-E9FD-43C8-A471-2BDBD22D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2BC9-4338-4ADF-B1A6-A06CFFFE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29EA-0759-4009-8216-B3698626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A434-AA68-4DEB-B83A-D273FAE8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FBAE-A9DD-4806-9D7A-40BE05D9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6F99-AC97-4C95-851D-E2A1251A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1C05-643B-45FD-823E-C08A572E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BC71-4F17-472A-A40D-CA78F617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7218-E307-4416-83C6-19E15B8E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6F7F-AE85-4233-AFB5-0232943B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85A9-6064-4E42-85BC-9707C1D6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2819-E89C-4913-9D24-4AF71F40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65EB-9291-4E8F-B8E4-80370CAE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543E-328D-4D17-9978-A28DAD4A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BEEB-8E42-4391-A69C-547A7F56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F41-D994-4D50-A797-EB754E52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D3E3-2CCE-4077-9729-70C371F4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A3C-4BD6-4F49-9B51-4611946D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24DB-1CB6-49BA-A1E4-759004B1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716B-1A74-4A13-A3B8-DDD772F5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00A3-27F0-4618-AF3E-310910E6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8411-D111-43CB-A165-57C1B28B870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C99E-2562-4A0E-A883-D0EB405B078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ved=2ahUKEwjS_KTXp8DaAhUni1QKHZxWAV8QjRx6BAgAEAU&amp;url=https%3A%2F%2Fsaultonline.com%2F2016%2F03%2F15-unique-ontario-activities-to-enjoy-this-march-break%2F&amp;psig=AOvVaw17FwEA1DJvQLCacYCIlJNO&amp;ust=1524020121317359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Prose Interpretation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7085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’s not just about reading a cute stor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Four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371240"/>
            <a:ext cx="30477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lligence</a:t>
            </a:r>
            <a:r>
              <a:rPr b="0" lang="en-US" sz="2200" spc="-1" strike="noStrike">
                <a:solidFill>
                  <a:srgbClr val="c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Use your intelligence to choose a selection of good literature that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suits you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nd will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interest your audience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 good prose selection should make the audience want more and give them something to mentally diges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67080" y="4221000"/>
            <a:ext cx="2895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nding and selecting the right prose interp is as every bit as difficult as finding the right humor or drama script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4267080" y="1371600"/>
            <a:ext cx="4267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er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hoose a selection that will allow you to vocally create word pictures. It is the interpreter's job to create a memorable, positive  performan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38160" y="1275840"/>
            <a:ext cx="358128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nsit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volves establishing the correct tone and mood. Essentially, this refers back to the fact of, "Where are you coming from?"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Keep in mind that a good prose does not have to be about death, dying, and depression. There are many excellent selections out there that deserve your attention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7960" y="3583080"/>
            <a:ext cx="243828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Remember that your overall goal is to make the author's work come alive for the listener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4648320" y="1276200"/>
            <a:ext cx="408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ination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eals with your creativity. What can you do with this piece without distorting the author's intent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xperiment and be bra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506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360" y="1238040"/>
            <a:ext cx="778356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void over exagger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B. Know your commitment to the piece of literatur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. How will you use silence? Let the pause work for you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. Decide which vocal traits -- tempo, rhythm, range, and quality (practice using many types) will most accurately convey your meaning to the judge/audienc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01520" y="4571640"/>
            <a:ext cx="601956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. Muscle memory – often referred to as the "theory of remembered action." It aids in suggesting hurry or leisure, activity or passivity, tension or relax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Picture 1" descr="C:\Users\wendib\AppData\Local\Microsoft\Windows\Temporary Internet Files\Low\Content.IE5\82RPEAWG\j0432663[1].png"/>
          <p:cNvPicPr/>
          <p:nvPr/>
        </p:nvPicPr>
        <p:blipFill>
          <a:blip r:embed="rId1"/>
          <a:stretch/>
        </p:blipFill>
        <p:spPr>
          <a:xfrm>
            <a:off x="6858000" y="380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,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ntinued…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452600"/>
            <a:ext cx="6926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. Use your script to your advantage. You are not a robot. Gestures are still allowed and of great importance in establishing overall impac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. Maintain eye contact with your script. It is your tool. I would suggest a 60% eye contact with the audience and a 40% eye contact with your script. This is not a memorized even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040" y="47242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H. Suggestion becomes paramount -- in prose interp, all is not told to the audience. There must be room for the reader's imagination to work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533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here to Find Materia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60400" y="1446120"/>
            <a:ext cx="790272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arch Literature resources in the library for short stories or suggested novel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anguage Arts Professor to recommend good books or short stori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ibrarian for sugges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nk of a role model, hero, or favorite performer of yours, and read their autobiographi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5120" y="4008240"/>
            <a:ext cx="62262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et a coffee and hang out at a bookstore… read some best-selling books and essay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the clerks for their  recommenda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on’t forget about the COMEDY section!  It’s ok to make people laugh in a Prose room.  Browse through some popular  comedian’s books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02840" y="6854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Have a Blast!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160800" y="175212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If you don’t love your Prose, neither will your audience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Picture 6" descr="Image result for have fu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3120" y="3124080"/>
            <a:ext cx="48672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91760"/>
            <a:ext cx="50292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400" y="1263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Prose allows us to grasp the great world beyond our front doo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The LITERATURE should be the focus, not the performe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4400" y="365724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 Oral Interpreter of Prose brings LITERATURE TO LIFE in the minds (not eyes) of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serves as a liaison between the literature and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8880" y="1769760"/>
            <a:ext cx="7567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takes on the role of the storyteller in the absence of the Author, but has the responsibility to bring out the underlying meanings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behi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he words, as well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119240" y="3903840"/>
            <a:ext cx="57387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makes decisions about how the literature is brought to life, but should still allow the audience to utilize their own imagi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440" y="685440"/>
            <a:ext cx="32925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se Guidelin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48280" y="838080"/>
            <a:ext cx="3200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presses thought through language recorded in sentences and paragraphs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includes: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short stories, novels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n-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articles, essays, journals, biographies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904760"/>
            <a:ext cx="4022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ions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ust be published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and no plays or other dramatic material may be used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ime limit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s not more than five minute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sentations must be from a printed sheet with only the words being presented. Reading from a book or magazine is not permitte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oice of Literatur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3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good choice for Prose should b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iversal in them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orable beyond the immediate mo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ailor-matched to the present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3200" y="4647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Your Role as the Interprete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309564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Participation in this assignment should also assist in the development of critical techniques in the evaluation of prose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ral interpretation of prose is to convey subtleties of meaning of prose and feeling through vocal control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Picture 2" descr="F:\CHS stuff\H drive backup 6 3 08\speech clipart\4us7dnyu[1].jpg"/>
          <p:cNvPicPr/>
          <p:nvPr/>
        </p:nvPicPr>
        <p:blipFill>
          <a:blip r:embed="rId1"/>
          <a:srcRect l="22313" t="0" r="26833" b="0"/>
          <a:stretch/>
        </p:blipFill>
        <p:spPr>
          <a:xfrm>
            <a:off x="6095880" y="3429000"/>
            <a:ext cx="250524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1062000" y="1360440"/>
            <a:ext cx="74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purpose is to stimulate the presenter to find the meaning of printed prose and to communicate the meaning orally to his/her liste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CHS stuff\H drive backup 6 3 08\speech clipart\img_blackbook.jpg"/>
          <p:cNvPicPr/>
          <p:nvPr/>
        </p:nvPicPr>
        <p:blipFill>
          <a:blip r:embed="rId1"/>
          <a:stretch/>
        </p:blipFill>
        <p:spPr>
          <a:xfrm>
            <a:off x="5791320" y="34290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Interp Boo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true beauty of orally reading literature is that each audience member is allowed the creativity and freedom to relate, identify and react to it on their ow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rganize your ‘book’ so it can be read with ease, choose a small binder or develop a means of reading your piece smoothly in a similar orienta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523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 not allow physical action to overshadow the spoken wor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low the voice, face, eyes, and gestures to work in unison with the literatur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void technical tricks for the sole purpose of achieving audience reaction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1" descr="F:\CHS stuff\H drive backup 6 3 08\speech clipart\42279b931d39f-85-2[1].jpg"/>
          <p:cNvPicPr/>
          <p:nvPr/>
        </p:nvPicPr>
        <p:blipFill>
          <a:blip r:embed="rId1"/>
          <a:srcRect l="20774" t="0" r="10978" b="0"/>
          <a:stretch/>
        </p:blipFill>
        <p:spPr>
          <a:xfrm>
            <a:off x="6248520" y="3352680"/>
            <a:ext cx="23619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52480" y="1628640"/>
            <a:ext cx="60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Realize that as the Oral Interpreter of the Literature, you have a proxemic intimacy with the audience that cannot be matched by a performer on stage.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e Interpreter receives immediate feedback and should not cross the audience's comfort level between suggesting personae and becoming personae in literature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7" name="Picture 1" descr="F:\CHS stuff\H drive backup 6 3 08\speech clipart\j0295151[1].gif"/>
          <p:cNvPicPr/>
          <p:nvPr/>
        </p:nvPicPr>
        <p:blipFill>
          <a:blip r:embed="rId1"/>
          <a:stretch/>
        </p:blipFill>
        <p:spPr>
          <a:xfrm>
            <a:off x="6567480" y="1143000"/>
            <a:ext cx="2000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1:00:11Z</dcterms:created>
  <dc:creator>wendib</dc:creator>
  <dc:description/>
  <dc:language>en-US</dc:language>
  <cp:lastModifiedBy>Tinamarie Ivey</cp:lastModifiedBy>
  <dcterms:modified xsi:type="dcterms:W3CDTF">2018-04-17T02:57:04Z</dcterms:modified>
  <cp:revision>30</cp:revision>
  <dc:subject/>
  <dc:title>Prose Interpretation</dc:title>
</cp:coreProperties>
</file>