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gif" ContentType="image/gif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5F67-C574-4135-8C57-EBCAC3678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432B-7495-4888-A43C-1904E1762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B29C-AB9F-4DDD-A7A6-8D8561290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FA00-C55F-4175-BBC9-9E506B335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457C7-454F-4AAD-BC54-0CDD7D887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596B0-9E4A-4DCA-903B-2CE110E69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36690-9E58-4E60-91CD-6BC35629B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51A74-A8BA-4952-B411-044085F01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8CF49-3081-4C97-A396-DF9E61112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BFF54-AE14-4BF2-8989-5559A3C65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C4E34-92C8-4C4B-8217-B34D14391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04BD-84C5-4320-906A-D40F25D31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8EDA5-F37B-4FEF-A1D7-1D6A193D7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72218-2A2E-4623-92D5-62945DF70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8A170-0BB3-4C6C-965D-117988EF7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A0025-EBB0-4D79-AC35-3A0AA9AA5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265F9-CAB7-47F6-A6D9-70C52BC08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16D7-4972-4487-BB13-1658CBCCF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4EE4-C69F-4DB5-B89C-6A4F0FD2F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2F55-28CA-4A21-98E0-DFC84697A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94B9-0652-4D74-9E80-C9E464CE3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BB0B-8990-456E-8F4F-173E917D2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3234-7B97-4294-BAAD-32079EF3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E9C9-1864-47B2-A06E-90209354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21E41-CA4F-4AE6-AAD0-D579DDAF32BC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256FC-25F6-4CE6-BAAE-8EB38AFECB0A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s://www.google.com/url?sa=i&amp;rct=j&amp;q=&amp;esrc=s&amp;source=images&amp;cd=&amp;ved=2ahUKEwjS_KTXp8DaAhUni1QKHZxWAV8QjRx6BAgAEAU&amp;url=https%3A%2F%2Fsaultonline.com%2F2016%2F03%2F15-unique-ontario-activities-to-enjoy-this-march-break%2F&amp;psig=AOvVaw17FwEA1DJvQLCacYCIlJNO&amp;ust=1524020121317359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Prose Interpretation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79080" y="2819160"/>
            <a:ext cx="70851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t’s not just about reading a cute story!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The Four “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”s of Prose Interp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990720" y="1371240"/>
            <a:ext cx="304776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550"/>
              </a:spcBef>
              <a:buClr>
                <a:srgbClr val="c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Century Gothic"/>
              </a:rPr>
              <a:t>Intelligence</a:t>
            </a:r>
            <a:r>
              <a:rPr b="0" lang="en-US" sz="2200" spc="-1" strike="noStrike">
                <a:solidFill>
                  <a:srgbClr val="c00000"/>
                </a:solidFill>
                <a:latin typeface="Century Gothic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22200" indent="-322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Use your intelligence to choose a selection of good literature that </a:t>
            </a:r>
            <a:r>
              <a:rPr b="1" lang="en-US" sz="2200" spc="-1" strike="noStrike">
                <a:solidFill>
                  <a:srgbClr val="000000"/>
                </a:solidFill>
                <a:latin typeface="Century Gothic"/>
              </a:rPr>
              <a:t>suits you 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and will </a:t>
            </a:r>
            <a:r>
              <a:rPr b="1" lang="en-US" sz="2200" spc="-1" strike="noStrike">
                <a:solidFill>
                  <a:srgbClr val="000000"/>
                </a:solidFill>
                <a:latin typeface="Century Gothic"/>
              </a:rPr>
              <a:t>interest your audience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 good prose selection should make the audience want more and give them something to mentally digest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267080" y="4221000"/>
            <a:ext cx="289584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nding and selecting the right prose interp is as every bit as difficult as finding the right humor or drama script!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TextBox 1"/>
          <p:cNvSpPr/>
          <p:nvPr/>
        </p:nvSpPr>
        <p:spPr>
          <a:xfrm>
            <a:off x="4267080" y="1371600"/>
            <a:ext cx="426744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Century Gothic"/>
              </a:rPr>
              <a:t>Imagery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hoose a selection that will allow you to vocally create word pictures. It is the interpreter's job to create a memorable, positive  performanc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The “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”s of Prose Interp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938160" y="1275840"/>
            <a:ext cx="3581280" cy="520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c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Century Gothic"/>
              </a:rPr>
              <a:t>Intensity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: 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involves establishing the correct tone and mood. Essentially, this refers back to the fact of, "Where are you coming from?"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Keep in mind that a good prose does not have to be about death, dying, and depression. There are many excellent selections out there that deserve your attention.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7960" y="3583080"/>
            <a:ext cx="2438280" cy="23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Remember that your overall goal is to make the author's work come alive for the listener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TextBox 1"/>
          <p:cNvSpPr/>
          <p:nvPr/>
        </p:nvSpPr>
        <p:spPr>
          <a:xfrm>
            <a:off x="4648320" y="1276200"/>
            <a:ext cx="40860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Century Gothic"/>
              </a:rPr>
              <a:t>Imagination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: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deals with your creativity. What can you do with this piece without distorting the author's intent?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Experiment and be brav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8960" y="5061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Final Prose Tip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90360" y="1238040"/>
            <a:ext cx="7783560" cy="35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550"/>
              </a:spcBef>
              <a:buClr>
                <a:srgbClr val="000000"/>
              </a:buClr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Avoid over exaggeration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B. Know your commitment to the piece of literature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. How will you use silence? Let the pause work for you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D. Decide which vocal traits -- tempo, rhythm, range, and quality (practice using many types) will most accurately convey your meaning to the judge/audience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01520" y="4571640"/>
            <a:ext cx="6019560" cy="157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E. Muscle memory – often referred to as the "theory of remembered action." It aids in suggesting hurry or leisure, activity or passivity, tension or relaxation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9" name="Picture 1" descr="C:\Users\wendib\AppData\Local\Microsoft\Windows\Temporary Internet Files\Low\Content.IE5\82RPEAWG\j0432663[1].png"/>
          <p:cNvPicPr/>
          <p:nvPr/>
        </p:nvPicPr>
        <p:blipFill>
          <a:blip r:embed="rId1"/>
          <a:stretch/>
        </p:blipFill>
        <p:spPr>
          <a:xfrm>
            <a:off x="6858000" y="38088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Final Prose Tips, 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ontinued…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1452600"/>
            <a:ext cx="69264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. Use your script to your advantage. You are not a robot. Gestures are still allowed and of great importance in establishing overall impact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G. Maintain eye contact with your script. It is your tool. I would suggest a 60% eye contact with the audience and a 40% eye contact with your script. This is not a memorized event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914040" y="4724280"/>
            <a:ext cx="60958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-339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H. Suggestion becomes paramount -- in prose interp, all is not told to the audience. There must be room for the reader's imagination to work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-339840"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79080" y="5331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Where to Find Material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60400" y="1446120"/>
            <a:ext cx="7902720" cy="23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arch Literature resources in the library for short stories or suggested novel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sk your Language Arts Professor to recommend good books or short storie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sk your Librarian for suggestion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ink of a role model, hero, or favorite performer of yours, and read their autobiographies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5120" y="4008240"/>
            <a:ext cx="6226200" cy="23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Get a coffee and hang out at a bookstore… read some best-selling books and essay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sk the clerks for their  recommendation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Don’t forget about the COMEDY section!  It’s ok to make people laugh in a Prose room.  Browse through some popular  comedian’s books!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02840" y="6854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Have a Blast!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160800" y="1752120"/>
            <a:ext cx="5256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entury Gothic"/>
              </a:rPr>
              <a:t>If you don’t love your Prose, neither will your audience!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8" name="Picture 6" descr="Image result for have fu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73120" y="3124080"/>
            <a:ext cx="486720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491760"/>
            <a:ext cx="50292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An Overview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914400" y="126360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24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Gothic"/>
              </a:rPr>
              <a:t>Prose allows us to grasp the great world beyond our front door.</a:t>
            </a: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  <a:p>
            <a:pPr marL="298440" indent="-2984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  <a:p>
            <a:pPr marL="298440" indent="-298440">
              <a:spcBef>
                <a:spcPts val="624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Gothic"/>
              </a:rPr>
              <a:t>The LITERATURE should be the focus, not the performer.</a:t>
            </a: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914400" y="3657240"/>
            <a:ext cx="64771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n Oral Interpreter of Prose brings LITERATURE TO LIFE in the minds (not eyes) of the audience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Interpreter serves as a liaison between the literature and the audience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An Overview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118880" y="1769760"/>
            <a:ext cx="7567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Interpreter takes on the role of the storyteller in the absence of the Author, but has the responsibility to bring out the underlying meanings </a:t>
            </a: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behind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the words, as well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TextBox 1"/>
          <p:cNvSpPr/>
          <p:nvPr/>
        </p:nvSpPr>
        <p:spPr>
          <a:xfrm>
            <a:off x="1119240" y="3903840"/>
            <a:ext cx="57387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Interpreter makes decisions about how the literature is brought to life, but should still allow the audience to utilize their own imagin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79440" y="685440"/>
            <a:ext cx="32925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Prose Guideline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048280" y="838080"/>
            <a:ext cx="32004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entury Gothic"/>
              </a:rPr>
              <a:t>Prose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expresses thought through language recorded in sentences and paragraphs.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499"/>
              </a:spcBef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499"/>
              </a:spcBef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entury Gothic"/>
              </a:rPr>
              <a:t>Prose includes: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Fiction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(short stories, novels)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499"/>
              </a:spcBef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Non-fiction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(articles, essays, journals, biographies)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990720" y="1904760"/>
            <a:ext cx="40226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lections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must be published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and no plays or other dramatic material may be used.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time limit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is not more than five minutes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Presentations must be from a printed sheet with only the words being presented. Reading from a book or magazine is not permitted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hoice of Literatur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066320" y="1600200"/>
            <a:ext cx="6705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 good choice for Prose should be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Universal in them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Memorable beyond the immediate momen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ailor-matched to the presenter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33200" y="4647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Your Role as the Interpreter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90720" y="3095640"/>
            <a:ext cx="5029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Participation in this assignment should also assist in the development of critical techniques in the evaluation of prose.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Oral interpretation of prose is to convey subtleties of meaning of prose and feeling through vocal control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7" name="Picture 2" descr="F:\CHS stuff\H drive backup 6 3 08\speech clipart\4us7dnyu[1].jpg"/>
          <p:cNvPicPr/>
          <p:nvPr/>
        </p:nvPicPr>
        <p:blipFill>
          <a:blip r:embed="rId1"/>
          <a:srcRect l="22313" t="0" r="26833" b="0"/>
          <a:stretch/>
        </p:blipFill>
        <p:spPr>
          <a:xfrm>
            <a:off x="6095880" y="3429000"/>
            <a:ext cx="2505240" cy="28954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1"/>
          <p:cNvSpPr/>
          <p:nvPr/>
        </p:nvSpPr>
        <p:spPr>
          <a:xfrm>
            <a:off x="1062000" y="1360440"/>
            <a:ext cx="745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purpose is to stimulate the presenter to find the meaning of printed prose and to communicate the meaning orally to his/her listen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F:\CHS stuff\H drive backup 6 3 08\speech clipart\img_blackbook.jpg"/>
          <p:cNvPicPr/>
          <p:nvPr/>
        </p:nvPicPr>
        <p:blipFill>
          <a:blip r:embed="rId1"/>
          <a:stretch/>
        </p:blipFill>
        <p:spPr>
          <a:xfrm>
            <a:off x="5791320" y="3429000"/>
            <a:ext cx="2857320" cy="28576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The Interp Book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66680" y="16002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true beauty of orally reading literature is that each audience member is allowed the creativity and freedom to relate, identify and react to it on their own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Organize your ‘book’ so it can be read with ease, choose a small binder or develop a means of reading your piece smoothly in a similar orientation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Performance Technique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066320" y="152388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Do not allow physical action to overshadow the spoken word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llow the voice, face, eyes, and gestures to work in unison with the literature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void technical tricks for the sole purpose of achieving audience reactions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4" name="Picture 1" descr="F:\CHS stuff\H drive backup 6 3 08\speech clipart\42279b931d39f-85-2[1].jpg"/>
          <p:cNvPicPr/>
          <p:nvPr/>
        </p:nvPicPr>
        <p:blipFill>
          <a:blip r:embed="rId1"/>
          <a:srcRect l="20774" t="0" r="10978" b="0"/>
          <a:stretch/>
        </p:blipFill>
        <p:spPr>
          <a:xfrm>
            <a:off x="6248520" y="3352680"/>
            <a:ext cx="2361960" cy="29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Performance Technique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52480" y="1628640"/>
            <a:ext cx="60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Realize that as the Oral Interpreter of the Literature, you have a proxemic intimacy with the audience that cannot be matched by a performer on stage. 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The Interpreter receives immediate feedback and should not cross the audience's comfort level between suggesting personae and becoming personae in literature.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7" name="Picture 1" descr="F:\CHS stuff\H drive backup 6 3 08\speech clipart\j0295151[1].gif"/>
          <p:cNvPicPr/>
          <p:nvPr/>
        </p:nvPicPr>
        <p:blipFill>
          <a:blip r:embed="rId1"/>
          <a:stretch/>
        </p:blipFill>
        <p:spPr>
          <a:xfrm>
            <a:off x="6567480" y="1143000"/>
            <a:ext cx="20001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01:00:11Z</dcterms:created>
  <dc:creator>wendib</dc:creator>
  <dc:description/>
  <dc:language>en-US</dc:language>
  <cp:lastModifiedBy>Tinamarie Ivey</cp:lastModifiedBy>
  <dcterms:modified xsi:type="dcterms:W3CDTF">2018-04-17T02:57:04Z</dcterms:modified>
  <cp:revision>30</cp:revision>
  <dc:subject/>
  <dc:title>Prose Interpretation</dc:title>
</cp:coreProperties>
</file>