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gif" ContentType="image/gif"/>
  <Override PartName="/ppt/media/image6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BF87A-459C-4B65-9FC2-846F64152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79080" y="396432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98795-CAC0-4CE7-953E-2A2DBBC88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97332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362B0-24C7-4615-A8E2-99BDF6DD2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5676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3444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7908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5676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83444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49674-0808-452F-AF69-9AD70D261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5F058-5156-4C7E-821E-0D947CD56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00F6A-2945-4C75-B5D7-87F3A8646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20358-6288-4850-B48F-24F0310BB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B7B2B-C93C-4293-827B-AE30F9F3A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B0A55-A885-46D9-9B39-EEE6CE667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279080" y="68544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73F57-F3EF-41C4-BF5F-189826657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94538-7C23-4BE0-AB48-089440EEA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1CF06-F300-4FAE-9922-AE1114CD2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97332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0D801-C587-4841-99B6-F697E5C4F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CBE98-75D3-4601-8CF3-B60670D2C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279080" y="396432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EE30D-F28D-49EC-95E0-35AE9F2DE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397332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07905-2711-44F8-A306-C2622DF97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5676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83444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27908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5676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483444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9A039-3006-4D1D-AFC0-1B8B2C710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6BF13-3909-4A84-9C86-C45FCFB70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BAF49-BA35-456B-9E67-59FE74FD3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654B1-13DE-4AA4-B622-B91A4C672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79080" y="68544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2A761-CFED-4D26-8A59-E3D250731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66949-13CF-467F-B343-9C0576C5C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97332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E8712-4F2A-46E5-A753-47ED6683F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8C16B-2431-42B4-9725-EB500E4D2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E8CAB-7654-4A00-8846-A83BAFEE0E6D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CDBBE-A9B6-4E4D-B473-1F0435D759BD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s://www.google.com/url?sa=i&amp;rct=j&amp;q=&amp;esrc=s&amp;source=images&amp;cd=&amp;ved=2ahUKEwjS_KTXp8DaAhUni1QKHZxWAV8QjRx6BAgAEAU&amp;url=https%3A%2F%2Fsaultonline.com%2F2016%2F03%2F15-unique-ontario-activities-to-enjoy-this-march-break%2F&amp;psig=AOvVaw17FwEA1DJvQLCacYCIlJNO&amp;ust=1524020121317359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79080" y="1599840"/>
            <a:ext cx="7085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entury Gothic"/>
              </a:rPr>
              <a:t>Prose Interpretation</a:t>
            </a:r>
            <a:endParaRPr b="0" lang="en-US" sz="4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279080" y="2819160"/>
            <a:ext cx="708516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It’s not just about reading a cute story!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The Four “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  <a:ea typeface="Tahoma"/>
              </a:rPr>
              <a:t>I</a:t>
            </a: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”s of Prose Interp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990720" y="1371240"/>
            <a:ext cx="304776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550"/>
              </a:spcBef>
              <a:buClr>
                <a:srgbClr val="c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00000"/>
                </a:solidFill>
                <a:latin typeface="Century Gothic"/>
              </a:rPr>
              <a:t>Intelligence</a:t>
            </a:r>
            <a:r>
              <a:rPr b="0" lang="en-US" sz="2200" spc="-1" strike="noStrike">
                <a:solidFill>
                  <a:srgbClr val="c00000"/>
                </a:solidFill>
                <a:latin typeface="Century Gothic"/>
              </a:rPr>
              <a:t>: 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322200" indent="-3222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Use your intelligence to choose a selection of good literature that </a:t>
            </a:r>
            <a:r>
              <a:rPr b="1" lang="en-US" sz="2200" spc="-1" strike="noStrike">
                <a:solidFill>
                  <a:srgbClr val="000000"/>
                </a:solidFill>
                <a:latin typeface="Century Gothic"/>
              </a:rPr>
              <a:t>suits you </a:t>
            </a: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and will </a:t>
            </a:r>
            <a:r>
              <a:rPr b="1" lang="en-US" sz="2200" spc="-1" strike="noStrike">
                <a:solidFill>
                  <a:srgbClr val="000000"/>
                </a:solidFill>
                <a:latin typeface="Century Gothic"/>
              </a:rPr>
              <a:t>interest your audience</a:t>
            </a: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A good prose selection should make the audience want more and give them something to mentally digest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267080" y="4221000"/>
            <a:ext cx="289584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Finding and selecting the right prose interp is as every bit as difficult as finding the right humor or drama script!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1" name="TextBox 1"/>
          <p:cNvSpPr/>
          <p:nvPr/>
        </p:nvSpPr>
        <p:spPr>
          <a:xfrm>
            <a:off x="4267080" y="1371600"/>
            <a:ext cx="426744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00000"/>
                </a:solidFill>
                <a:latin typeface="Century Gothic"/>
              </a:rPr>
              <a:t>Imagery</a:t>
            </a: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Choose a selection that will allow you to vocally create word pictures. It is the interpreter's job to create a memorable, positive  performance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The “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  <a:ea typeface="Tahoma"/>
              </a:rPr>
              <a:t>I</a:t>
            </a: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”s of Prose Interp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938160" y="1275840"/>
            <a:ext cx="3581280" cy="520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550"/>
              </a:spcBef>
              <a:buClr>
                <a:srgbClr val="c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00000"/>
                </a:solidFill>
                <a:latin typeface="Century Gothic"/>
              </a:rPr>
              <a:t>Intensity</a:t>
            </a: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:  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339480" indent="-339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involves establishing the correct tone and mood. Essentially, this refers back to the fact of, "Where are you coming from?" 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339480" indent="-339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Keep in mind that a good prose does not have to be about death, dying, and depression. There are many excellent selections out there that deserve your attention. 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647960" y="3583080"/>
            <a:ext cx="2438280" cy="231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Remember that your overall goal is to make the author's work come alive for the listener.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5" name="TextBox 1"/>
          <p:cNvSpPr/>
          <p:nvPr/>
        </p:nvSpPr>
        <p:spPr>
          <a:xfrm>
            <a:off x="4648320" y="1276200"/>
            <a:ext cx="408600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00000"/>
                </a:solidFill>
                <a:latin typeface="Century Gothic"/>
              </a:rPr>
              <a:t>Imagination</a:t>
            </a: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: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deals with your creativity. What can you do with this piece without distorting the author's intent?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Experiment and be brav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18960" y="5061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Final Prose Tips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990360" y="1238040"/>
            <a:ext cx="7783560" cy="352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550"/>
              </a:spcBef>
              <a:buClr>
                <a:srgbClr val="000000"/>
              </a:buClr>
              <a:buFont typeface="Century Gothic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Avoid over exaggeration.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457200" indent="-45720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entury Gothic"/>
            </a:endParaRPr>
          </a:p>
          <a:p>
            <a:pPr marL="457200" indent="-4572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B. Know your commitment to the piece of literature.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457200" indent="-45720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entury Gothic"/>
            </a:endParaRPr>
          </a:p>
          <a:p>
            <a:pPr marL="457200" indent="-4572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C. How will you use silence? Let the pause work for you.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457200" indent="-45720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entury Gothic"/>
            </a:endParaRPr>
          </a:p>
          <a:p>
            <a:pPr marL="457200" indent="-4572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D. Decide which vocal traits -- tempo, rhythm, range, and quality (practice using many types) will most accurately convey your meaning to the judge/audience.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001520" y="4571640"/>
            <a:ext cx="6019560" cy="157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E. Muscle memory – often referred to as the "theory of remembered action." It aids in suggesting hurry or leisure, activity or passivity, tension or relaxation.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19" name="Picture 1" descr="C:\Users\wendib\AppData\Local\Microsoft\Windows\Temporary Internet Files\Low\Content.IE5\82RPEAWG\j0432663[1].png"/>
          <p:cNvPicPr/>
          <p:nvPr/>
        </p:nvPicPr>
        <p:blipFill>
          <a:blip r:embed="rId1"/>
          <a:stretch/>
        </p:blipFill>
        <p:spPr>
          <a:xfrm>
            <a:off x="6858000" y="380880"/>
            <a:ext cx="171468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Final Prose Tips, </a:t>
            </a: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continued….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838080" y="1452600"/>
            <a:ext cx="692640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. Use your script to your advantage. You are not a robot. Gestures are still allowed and of great importance in establishing overall impact.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329040" indent="-3290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329040" indent="-3290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G. Maintain eye contact with your script. It is your tool. I would suggest a 60% eye contact with the audience and a 40% eye contact with your script. This is not a memorized event.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329040" indent="-3290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914040" y="4724280"/>
            <a:ext cx="609588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9840" indent="-339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H. Suggestion becomes paramount -- in prose interp, all is not told to the audience. There must be room for the reader's imagination to work.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339840" indent="-339840">
              <a:spcBef>
                <a:spcPts val="55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79080" y="5331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Where to Find Material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860400" y="1446120"/>
            <a:ext cx="7902720" cy="239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Search Literature resources in the library for short stories or suggested novels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Ask your Language Arts Professor to recommend good books or short stories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Ask your Librarian for suggestions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Think of a role model, hero, or favorite performer of yours, and read their autobiographies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25120" y="4008240"/>
            <a:ext cx="6226200" cy="239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Get a coffee and hang out at a bookstore… read some best-selling books and essays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Ask the clerks for their  recommendations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Don’t forget about the COMEDY section!  It’s ok to make people laugh in a Prose room.  Browse through some popular  comedian’s books!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02840" y="685440"/>
            <a:ext cx="7085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entury Gothic"/>
              </a:rPr>
              <a:t>Have a Blast!</a:t>
            </a:r>
            <a:endParaRPr b="0" lang="en-US" sz="4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3160800" y="1752120"/>
            <a:ext cx="52560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entury Gothic"/>
              </a:rPr>
              <a:t>If you don’t love your Prose, neither will your audience!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28" name="Picture 6" descr="Image result for have fu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473120" y="3124080"/>
            <a:ext cx="4867200" cy="33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491760"/>
            <a:ext cx="5029200" cy="8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An Overview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914400" y="1263600"/>
            <a:ext cx="784872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624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entury Gothic"/>
              </a:rPr>
              <a:t>Prose allows us to grasp the great world beyond our front door.</a:t>
            </a:r>
            <a:endParaRPr b="0" lang="en-US" sz="2500" spc="-1" strike="noStrike">
              <a:solidFill>
                <a:srgbClr val="000000"/>
              </a:solidFill>
              <a:latin typeface="Century Gothic"/>
            </a:endParaRPr>
          </a:p>
          <a:p>
            <a:pPr marL="298440" indent="-2984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entury Gothic"/>
            </a:endParaRPr>
          </a:p>
          <a:p>
            <a:pPr marL="298440" indent="-298440">
              <a:spcBef>
                <a:spcPts val="624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entury Gothic"/>
              </a:rPr>
              <a:t>The LITERATURE should be the focus, not the performer.</a:t>
            </a:r>
            <a:endParaRPr b="0" lang="en-US" sz="25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914400" y="3657240"/>
            <a:ext cx="647712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An Oral Interpreter of Prose brings LITERATURE TO LIFE in the minds (not eyes) of the audience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he Interpreter serves as a liaison between the literature and the audience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An Overview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1118880" y="1769760"/>
            <a:ext cx="756756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he Interpreter takes on the role of the storyteller in the absence of the Author, but has the responsibility to bring out the underlying meanings </a:t>
            </a:r>
            <a:r>
              <a:rPr b="0" i="1" lang="en-US" sz="2400" spc="-1" strike="noStrike">
                <a:solidFill>
                  <a:srgbClr val="000000"/>
                </a:solidFill>
                <a:latin typeface="Century Gothic"/>
              </a:rPr>
              <a:t>behind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the words, as well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9" name="TextBox 1"/>
          <p:cNvSpPr/>
          <p:nvPr/>
        </p:nvSpPr>
        <p:spPr>
          <a:xfrm>
            <a:off x="1119240" y="3903840"/>
            <a:ext cx="573876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he Interpreter makes decisions about how the literature is brought to life, but should still allow the audience to utilize their own imagin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79440" y="685440"/>
            <a:ext cx="329256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Prose Guidelines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5048280" y="838080"/>
            <a:ext cx="32004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17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entury Gothic"/>
              </a:rPr>
              <a:t>Prose 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expresses thought through language recorded in sentences and paragraphs. 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499"/>
              </a:spcBef>
              <a:tabLst>
                <a:tab algn="l" pos="0"/>
                <a:tab algn="l" pos="17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499"/>
              </a:spcBef>
              <a:tabLst>
                <a:tab algn="l" pos="0"/>
                <a:tab algn="l" pos="17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entury Gothic"/>
              </a:rPr>
              <a:t>Prose includes: </a:t>
            </a: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Fiction 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(short stories, novels) 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499"/>
              </a:spcBef>
              <a:tabLst>
                <a:tab algn="l" pos="0"/>
                <a:tab algn="l" pos="17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Non-fiction 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(articles, essays, journals, biographies)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990720" y="1904760"/>
            <a:ext cx="402264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Selections </a:t>
            </a: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must be published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 and no plays or other dramatic material may be used. 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The </a:t>
            </a: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time limit 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is not more than five minutes 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Presentations must be from a printed sheet with only the words being presented. Reading from a book or magazine is not permitted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Choice of Literature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066320" y="1600200"/>
            <a:ext cx="6705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A good choice for Prose should be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Universal in theme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Memorable beyond the immediate momen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ailor-matched to the presenter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33200" y="4647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Your Role as the Interpreter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990720" y="3095640"/>
            <a:ext cx="50292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Participation in this assignment should also assist in the development of critical techniques in the evaluation of prose. 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Oral interpretation of prose is to convey subtleties of meaning of prose and feeling through vocal control.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97" name="Picture 2" descr="F:\CHS stuff\H drive backup 6 3 08\speech clipart\4us7dnyu[1].jpg"/>
          <p:cNvPicPr/>
          <p:nvPr/>
        </p:nvPicPr>
        <p:blipFill>
          <a:blip r:embed="rId1"/>
          <a:srcRect l="22313" t="0" r="26833" b="0"/>
          <a:stretch/>
        </p:blipFill>
        <p:spPr>
          <a:xfrm>
            <a:off x="6095880" y="3429000"/>
            <a:ext cx="2505240" cy="289548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1"/>
          <p:cNvSpPr/>
          <p:nvPr/>
        </p:nvSpPr>
        <p:spPr>
          <a:xfrm>
            <a:off x="1062000" y="1360440"/>
            <a:ext cx="7458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he purpose is to stimulate the presenter to find the meaning of printed prose and to communicate the meaning orally to his/her listen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F:\CHS stuff\H drive backup 6 3 08\speech clipart\img_blackbook.jpg"/>
          <p:cNvPicPr/>
          <p:nvPr/>
        </p:nvPicPr>
        <p:blipFill>
          <a:blip r:embed="rId1"/>
          <a:stretch/>
        </p:blipFill>
        <p:spPr>
          <a:xfrm>
            <a:off x="5791320" y="3429000"/>
            <a:ext cx="2857320" cy="285768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The Interp Book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066680" y="1600200"/>
            <a:ext cx="5105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he true beauty of orally reading literature is that each audience member is allowed the creativity and freedom to relate, identify and react to it on their own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Organize your ‘book’ so it can be read with ease, choose a small binder or develop a means of reading your piece smoothly in a similar orientation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Performance Techniques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066320" y="152388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Do not allow physical action to overshadow the spoken word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Allow the voice, face, eyes, and gestures to work in unison with the literature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Avoid technical tricks for the sole purpose of achieving audience reactions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04" name="Picture 1" descr="F:\CHS stuff\H drive backup 6 3 08\speech clipart\42279b931d39f-85-2[1].jpg"/>
          <p:cNvPicPr/>
          <p:nvPr/>
        </p:nvPicPr>
        <p:blipFill>
          <a:blip r:embed="rId1"/>
          <a:srcRect l="20774" t="0" r="10978" b="0"/>
          <a:stretch/>
        </p:blipFill>
        <p:spPr>
          <a:xfrm>
            <a:off x="6248520" y="3352680"/>
            <a:ext cx="2361960" cy="299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Performance Techniques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852480" y="1628640"/>
            <a:ext cx="6005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Realize that as the Oral Interpreter of the Literature, you have a proxemic intimacy with the audience that cannot be matched by a performer on stage. 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The Interpreter receives immediate feedback and should not cross the audience's comfort level between suggesting personae and becoming personae in literature.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07" name="Picture 1" descr="F:\CHS stuff\H drive backup 6 3 08\speech clipart\j0295151[1].gif"/>
          <p:cNvPicPr/>
          <p:nvPr/>
        </p:nvPicPr>
        <p:blipFill>
          <a:blip r:embed="rId1"/>
          <a:stretch/>
        </p:blipFill>
        <p:spPr>
          <a:xfrm>
            <a:off x="6567480" y="1143000"/>
            <a:ext cx="200016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01:00:11Z</dcterms:created>
  <dc:creator>wendib</dc:creator>
  <dc:description/>
  <dc:language>en-US</dc:language>
  <cp:lastModifiedBy>Tinamarie Ivey</cp:lastModifiedBy>
  <dcterms:modified xsi:type="dcterms:W3CDTF">2018-04-17T02:57:04Z</dcterms:modified>
  <cp:revision>30</cp:revision>
  <dc:subject/>
  <dc:title>Prose Interpretation</dc:title>
</cp:coreProperties>
</file>