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92A4-FC43-4CF9-AA69-FBA462CC4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7AE2-BCA6-42FE-AB41-D7C2ED4DB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F796-1834-4AA9-B43D-9CE850797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4642-49C0-49FA-996B-1F252BB3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CFB3-9DD8-49B6-AE32-851BF33C2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CAE7-7A95-4536-9249-6786D47B7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C029F-00B7-4659-8E20-863B8E2A0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6F17-4CD5-4314-85F8-22765A20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13EE3-F56C-438A-88D6-A06E6C19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EB3C-5AB0-4A91-BAD4-F1DB9CEEC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85FE-F329-45DE-85AB-32A5B6841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647-10E9-4B12-BCDF-A090A656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B760F-128B-4C92-BD6D-A3C91F364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B79D-D990-4243-B8DC-AB6B55E1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CCB32-C15C-41C8-8ABD-58ABADD2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94A7-B207-4F00-8D96-3111B96F2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CD78D-66B8-4EF9-99CD-9700A830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61C7E-B885-4591-9FBE-E7B141BD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AB4-744D-468B-8D3B-640685A8F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B43F-F148-4897-BD62-F8707FD9F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B5A-6716-41D5-A36C-B3CEE1738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91B1-0F6E-434E-8D32-94CCC396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A97B-4520-44B4-8895-A5707FEF9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4CF-0C9A-4E6A-B68E-85B23BC9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4AC5-33CA-482C-BBCA-4CD674FA27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496A-6A63-41E6-95C9-C52FECF724B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i="1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ae"/>
          <p:cNvPicPr/>
          <p:nvPr/>
        </p:nvPicPr>
        <p:blipFill>
          <a:blip r:embed="rId1"/>
          <a:stretch/>
        </p:blipFill>
        <p:spPr>
          <a:xfrm>
            <a:off x="304920" y="15228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b&amp;n"/>
          <p:cNvPicPr/>
          <p:nvPr/>
        </p:nvPicPr>
        <p:blipFill>
          <a:blip r:embed="rId2"/>
          <a:stretch/>
        </p:blipFill>
        <p:spPr>
          <a:xfrm>
            <a:off x="3200400" y="2514600"/>
            <a:ext cx="2409840" cy="189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best buy"/>
          <p:cNvPicPr/>
          <p:nvPr/>
        </p:nvPicPr>
        <p:blipFill>
          <a:blip r:embed="rId3"/>
          <a:stretch/>
        </p:blipFill>
        <p:spPr>
          <a:xfrm>
            <a:off x="304920" y="4800600"/>
            <a:ext cx="2638440" cy="1733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foot lkr"/>
          <p:cNvPicPr/>
          <p:nvPr/>
        </p:nvPicPr>
        <p:blipFill>
          <a:blip r:embed="rId4"/>
          <a:stretch/>
        </p:blipFill>
        <p:spPr>
          <a:xfrm>
            <a:off x="6324480" y="4876920"/>
            <a:ext cx="2105280" cy="15332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jc"/>
          <p:cNvPicPr/>
          <p:nvPr/>
        </p:nvPicPr>
        <p:blipFill>
          <a:blip r:embed="rId5"/>
          <a:stretch/>
        </p:blipFill>
        <p:spPr>
          <a:xfrm>
            <a:off x="228600" y="2362320"/>
            <a:ext cx="2552760" cy="1790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macys"/>
          <p:cNvPicPr/>
          <p:nvPr/>
        </p:nvPicPr>
        <p:blipFill>
          <a:blip r:embed="rId6"/>
          <a:stretch/>
        </p:blipFill>
        <p:spPr>
          <a:xfrm>
            <a:off x="3124080" y="228600"/>
            <a:ext cx="2495520" cy="18288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sears"/>
          <p:cNvPicPr/>
          <p:nvPr/>
        </p:nvPicPr>
        <p:blipFill>
          <a:blip r:embed="rId7"/>
          <a:stretch/>
        </p:blipFill>
        <p:spPr>
          <a:xfrm>
            <a:off x="6172200" y="2743200"/>
            <a:ext cx="2533680" cy="1800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2" descr="sephora"/>
          <p:cNvPicPr/>
          <p:nvPr/>
        </p:nvPicPr>
        <p:blipFill>
          <a:blip r:embed="rId8"/>
          <a:stretch/>
        </p:blipFill>
        <p:spPr>
          <a:xfrm>
            <a:off x="6172200" y="3808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" descr="wm"/>
          <p:cNvPicPr/>
          <p:nvPr/>
        </p:nvPicPr>
        <p:blipFill>
          <a:blip r:embed="rId9"/>
          <a:stretch/>
        </p:blipFill>
        <p:spPr>
          <a:xfrm>
            <a:off x="3276720" y="4800600"/>
            <a:ext cx="2466720" cy="18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5ffff"/>
                </a:solidFill>
                <a:latin typeface="Comic Sans MS"/>
              </a:rPr>
              <a:t>DEPARTMENT STORE</a:t>
            </a:r>
            <a:endParaRPr b="0" lang="en-US" sz="40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large establishments, an anchor at a shopping mal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ost often chain sto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erchandise is arranged in separate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ells a variety of merchandise under one roof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Great selection, quality va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Many sales, lots of advertising, busy environ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are assigned to work in specific departme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ach department has a manag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ash registers/checkout stations in each departme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Offer a variety of customer servi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self-service, sales associates sometimes less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levator” music, bright lights, lots of activ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Employ many people, opportunities to advance or transf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Hire more sales associates than any other type of sto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What we can find in a </a:t>
            </a:r>
            <a:br>
              <a:rPr sz="3200"/>
            </a:b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Department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pparel &amp; accessories for men, women and childre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Cosmetic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geri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Wedding atti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Housewares &amp; home de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arge and small applianc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ine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hoes for the famil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rocer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ool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cc"/>
                </a:solidFill>
                <a:latin typeface="Comic Sans MS"/>
              </a:rPr>
              <a:t>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pecializes in one category and sells related item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Wide variety of specialty items, not found elsew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better quality, more expensiv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maller stores, sometimes a chain, usually locally own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ales associates give personal assistance, are more profes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Usually one cash register and checkout st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Customer services off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Store displays, music, employees, overall atmosphere matches that of the products it specializes 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Relaxed atmosphe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What we can find in a Specialty Store</a:t>
            </a:r>
            <a:br>
              <a:rPr sz="3200"/>
            </a:br>
            <a:r>
              <a:rPr b="1" i="1" lang="en-US" sz="3200" spc="-1" strike="noStrike">
                <a:solidFill>
                  <a:srgbClr val="7b9cb5"/>
                </a:solidFill>
                <a:latin typeface="Comic Sans MS"/>
              </a:rPr>
              <a:t>(and related items)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ho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era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Sporting Good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ealth Foo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Jewelr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rid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ffe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ram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mping Gea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omputer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Toy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Garden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Kitchenw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abric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akeu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ook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and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Baby item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lothing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Music equip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Home déco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Auto par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Furnitu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Personal c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Comic Sans MS"/>
              </a:rPr>
              <a:t>Craft suppl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omic Sans MS"/>
              </a:rPr>
              <a:t>Work Conditions</a:t>
            </a:r>
            <a:br>
              <a:rPr sz="3200"/>
            </a:br>
            <a:r>
              <a:rPr b="1" i="1" lang="en-US" sz="3200" spc="-1" strike="noStrike">
                <a:solidFill>
                  <a:srgbClr val="ffffff"/>
                </a:solidFill>
                <a:latin typeface="Comic Sans MS"/>
              </a:rPr>
              <a:t>Department Store     Specialty Store</a:t>
            </a:r>
            <a:endParaRPr b="0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ssigned to a specific departmen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Duties will be lim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only for dept. assigned 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Good chance to advance or transf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tore is well known, experience looks good on resum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May not be able to provide customer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Trained in all areas of sto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perform many duti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gin at minimum wag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Become knowledgeable of specific produc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Less chance to advan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maller store, relaxed atmosphere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Fewer employee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Able to give personalized servic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451"/>
              </a:spcBef>
              <a:buClr>
                <a:srgbClr val="0099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omic Sans MS"/>
              </a:rPr>
              <a:t>Sell products you are interested 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ff99"/>
                </a:solidFill>
                <a:latin typeface="Comic Sans MS"/>
              </a:rPr>
              <a:t>Department vs Specialty Stores </a:t>
            </a:r>
            <a:br>
              <a:rPr sz="3200"/>
            </a:br>
            <a:r>
              <a:rPr b="1" i="1" lang="en-US" sz="2000" spc="-1" strike="noStrike">
                <a:solidFill>
                  <a:srgbClr val="ccff99"/>
                </a:solidFill>
                <a:latin typeface="Comic Sans MS"/>
              </a:rPr>
              <a:t>~images for question #1~</a:t>
            </a:r>
            <a:endParaRPr b="0" lang="en-US" sz="20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4" name="Picture 7" descr="aero"/>
          <p:cNvPicPr/>
          <p:nvPr/>
        </p:nvPicPr>
        <p:blipFill>
          <a:blip r:embed="rId1"/>
          <a:stretch/>
        </p:blipFill>
        <p:spPr>
          <a:xfrm>
            <a:off x="380880" y="1523880"/>
            <a:ext cx="1324080" cy="1324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cabelas"/>
          <p:cNvPicPr/>
          <p:nvPr/>
        </p:nvPicPr>
        <p:blipFill>
          <a:blip r:embed="rId2"/>
          <a:stretch/>
        </p:blipFill>
        <p:spPr>
          <a:xfrm>
            <a:off x="1447920" y="5010120"/>
            <a:ext cx="2476440" cy="1847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sally"/>
          <p:cNvPicPr/>
          <p:nvPr/>
        </p:nvPicPr>
        <p:blipFill>
          <a:blip r:embed="rId3"/>
          <a:stretch/>
        </p:blipFill>
        <p:spPr>
          <a:xfrm>
            <a:off x="3581280" y="16765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kohls"/>
          <p:cNvPicPr/>
          <p:nvPr/>
        </p:nvPicPr>
        <p:blipFill>
          <a:blip r:embed="rId4"/>
          <a:stretch/>
        </p:blipFill>
        <p:spPr>
          <a:xfrm>
            <a:off x="5276880" y="3962520"/>
            <a:ext cx="3867120" cy="2895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2" descr="lowes"/>
          <p:cNvPicPr/>
          <p:nvPr/>
        </p:nvPicPr>
        <p:blipFill>
          <a:blip r:embed="rId5"/>
          <a:stretch/>
        </p:blipFill>
        <p:spPr>
          <a:xfrm>
            <a:off x="6248520" y="16002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kmart"/>
          <p:cNvPicPr/>
          <p:nvPr/>
        </p:nvPicPr>
        <p:blipFill>
          <a:blip r:embed="rId6"/>
          <a:stretch/>
        </p:blipFill>
        <p:spPr>
          <a:xfrm>
            <a:off x="685800" y="297180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1T03:29:11Z</dcterms:created>
  <dc:creator>Authorized User</dc:creator>
  <dc:description/>
  <dc:language>en-US</dc:language>
  <cp:lastModifiedBy>Mindy Bean</cp:lastModifiedBy>
  <dcterms:modified xsi:type="dcterms:W3CDTF">2018-06-29T20:23:40Z</dcterms:modified>
  <cp:revision>6</cp:revision>
  <dc:subject/>
  <dc:title>DEPARTMENT STORE</dc:title>
</cp:coreProperties>
</file>