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4.jpeg" ContentType="image/jpeg"/>
  <Override PartName="/ppt/media/image2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C93E-9735-4384-8E15-4DAAF713F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18DB-B8DB-47B3-82EA-AB8386EF1FA6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tion other than standard identification must be added to the im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screen/film radiography, additional information is marked by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 and date stick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ease penci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manent mark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7C51-3EFE-46CB-9720-B9D4E3E41CB3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itching is used for anatomy or areas of interest too large to fit on one cassett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ultiple images can be “stitched” together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metimes, special cassette holders are used and positioned vertically, corresponding to foot to hip or entire spine radiography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80A3-A239-4DF3-84A9-EC1654DA889A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OR CR CL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7122-AEF4-407B-9134-B579F0D5ADC6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 DR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3D88-87BA-431D-89F9-FF18B7678CFD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ROR IN L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7A56-AABB-49B3-84D9-3B7B7949DF7E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 DROP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3E53-EF9E-44FF-9D26-46A35B207106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3F63-E5C4-426F-BE7C-44D0F2C44BD5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5B34-7E30-4674-9E3F-F41EB6D6F262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ES THIS CHAPTER TALK ABOUT THE SPEED OF THE DETECTO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PEED IS DETERMINED BY HOW EFFICIENTLY THE DETECTOR/DR CASSETTE CONVERTS X-RAY PHOTONS INTO ELECTRONIC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STER THE SPEED, THE LESS PHOTONS ARE NEEDED TO CONVERT, BUT THE LESS RESOLUTION YOU WILL HA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E01C-10A7-4E85-A4B3-53AFB0C5CEE0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NOT PERMA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B9AD-EE88-4CE7-AAAF-7359B919EF5D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SIGNALS FROM EACH PIXEL ARE AVERAGED TOGETHER.  THE MORE PIXELS INVOLVED IN THE CALCULATION, THE SMOOTHER THE PICTURE APPEARS.  WITH SMOOTHING, MORE PIXELS ARE AVERAG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 is a reduction of noise and contra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-pass filtering is useful for viewing small structures such as fine bone tissues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1BC2-464E-4ACA-91C0-A5BCDE44DF20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O BRING OUT THE OUT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PRODUCES A SHORTER SCALE OF CONTRAST AND MAKES EDGES APPEAR SHAR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SIGNALS FROM EACH PIXEL ARE AVERAGED TOGETHER.  THE MORE PIXELS INVOLVED IN THE CALCULATION, THE SMOOTHER THE PICTURE APPEARS.  WITH EDGE ENHANCEMENT, FEWER PIXELS ARE AVERAG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SO KNOWN AS HIGH PASS FILTER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N RESULT IN LOSS OF DETAIL OR INFORMATION – SHOULD ONLY BE USED WHILE VIEWING ( POST PACS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570A-0228-43A6-8809-0469EEF32CF6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ufficient collimation results in unattenuated radiation striking the imaging plat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sulting histogram is changed so that it is outside the normal exposure indicator range for the part select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smallest imaging plate possible and proper collimation, especially on small or thin patients, eliminates this erro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1360-CD5D-4D73-AF5E-03B37B9EF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EEFB-B8CF-4521-B9A4-D8F58CA1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E095-8C01-4836-874B-A70F43B3A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8076-44C6-4BEE-940A-A514A6CA2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AFDE-D49E-4132-8B7F-3F1335979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4D89-44D4-42C8-BCDD-4763064A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00EB-AABC-4D51-8005-CAAFDDED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55E9-72C5-4031-A0AF-A88E7F72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92BB-B1CE-4742-B604-10E44E33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36DE-DD6E-4287-AEFD-1A4EB591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8F38-8F2C-420E-8F82-3523DDA1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FA57-8DA2-4280-8316-B4E31F58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9C70-A425-49C8-B2B9-566255F9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B340-B685-40F8-9E25-93C50B0D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A021-0084-4ECC-BDD1-D6D03943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E3DA-1C3B-49EC-9FF8-52AAC9458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BF28-8E44-4191-A699-2BE5F65EA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F412-251E-4E11-A322-BD14090C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6CBD-D3CA-4D3C-940C-EE1AA761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CE87-6E63-4FA7-964E-B0AD6B50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A7BA-85E3-4A57-AFF7-73B52006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EB81-3D22-4A9C-BEEE-CDC90ED4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CEF1-6B15-445B-809F-FB0E4A7A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6297-15F7-489D-8318-7F096586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6226-B90B-4A0D-89DE-9EBAECD279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026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1027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1028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1029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1030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1031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1032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1033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34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A6F2-4E23-4361-B198-22A18B9FC2F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ROCESSING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PERATIONS</a:t>
            </a:r>
            <a:br>
              <a:rPr sz="44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N</a:t>
            </a:r>
            <a:br>
              <a:rPr sz="32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8120" y="4419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HAPTER 3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Image Reversal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4" name="Content Placeholder 3" descr="hsg-tubal-spasm.jpg"/>
          <p:cNvPicPr/>
          <p:nvPr/>
        </p:nvPicPr>
        <p:blipFill>
          <a:blip r:embed="rId1"/>
          <a:stretch/>
        </p:blipFill>
        <p:spPr>
          <a:xfrm>
            <a:off x="228600" y="1981080"/>
            <a:ext cx="3809880" cy="4496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hsg1.jpg"/>
          <p:cNvPicPr/>
          <p:nvPr/>
        </p:nvPicPr>
        <p:blipFill>
          <a:blip r:embed="rId2"/>
          <a:srcRect l="0" t="0" r="0" b="13545"/>
          <a:stretch/>
        </p:blipFill>
        <p:spPr>
          <a:xfrm>
            <a:off x="4800600" y="1981080"/>
            <a:ext cx="4006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07A4-C1C1-4203-BF74-538C0C31376B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Image Annotatio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nnotations overlay the image as bitmap imag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nnotations may not transfer to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icture archival and communication system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(PAC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put of annotation for identification of the patient’s left or right side should never be used as a substitute for technologist’s anatomy marker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Picture 4" descr="007010"/>
          <p:cNvPicPr/>
          <p:nvPr/>
        </p:nvPicPr>
        <p:blipFill>
          <a:blip r:embed="rId1"/>
          <a:stretch/>
        </p:blipFill>
        <p:spPr>
          <a:xfrm>
            <a:off x="5638680" y="1981080"/>
            <a:ext cx="32767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4CCB-D074-4E3B-A154-0FA8EDC7C758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Image Stitch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mages are processed in computer programs that nearly seamlessly join the anatom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puter displays one single imag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cess eliminates the need for large (36-inch) cassettes previously used in film/screen radiograph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Picture 4" descr="007009A"/>
          <p:cNvPicPr/>
          <p:nvPr/>
        </p:nvPicPr>
        <p:blipFill>
          <a:blip r:embed="rId1"/>
          <a:stretch/>
        </p:blipFill>
        <p:spPr>
          <a:xfrm>
            <a:off x="380880" y="419112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007009B"/>
          <p:cNvPicPr/>
          <p:nvPr/>
        </p:nvPicPr>
        <p:blipFill>
          <a:blip r:embed="rId2"/>
          <a:stretch/>
        </p:blipFill>
        <p:spPr>
          <a:xfrm>
            <a:off x="3657600" y="4191120"/>
            <a:ext cx="2438280" cy="2209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007009C"/>
          <p:cNvPicPr/>
          <p:nvPr/>
        </p:nvPicPr>
        <p:blipFill>
          <a:blip r:embed="rId3"/>
          <a:stretch/>
        </p:blipFill>
        <p:spPr>
          <a:xfrm>
            <a:off x="7086600" y="4191120"/>
            <a:ext cx="20574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Documents and Settings\Quinn Carroll\My Documents\DigRadTEXT\LCDphotos\Fig30-12AA.jpg"/>
          <p:cNvPicPr/>
          <p:nvPr/>
        </p:nvPicPr>
        <p:blipFill>
          <a:blip r:embed="rId1"/>
          <a:stretch/>
        </p:blipFill>
        <p:spPr>
          <a:xfrm>
            <a:off x="838080" y="533520"/>
            <a:ext cx="2462400" cy="5743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C:\Documents and Settings\Quinn Carroll\My Documents\DigRadTEXT\LCDphotos\Fig30-12BB.jpg"/>
          <p:cNvPicPr/>
          <p:nvPr/>
        </p:nvPicPr>
        <p:blipFill>
          <a:blip r:embed="rId2"/>
          <a:stretch/>
        </p:blipFill>
        <p:spPr>
          <a:xfrm>
            <a:off x="3505320" y="533520"/>
            <a:ext cx="2433600" cy="57625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6324480" y="533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248520" y="609480"/>
            <a:ext cx="259056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R Scoliosis Se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mage Stitching feature shows seam lines between 3 imag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THER THINGS THAT CAN AFFECT THE IMAGE: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lternative Algorithm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ne way to adjust the contrast and brightness characteristics of an image is to re-process it under a different pre-set anatomical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algorith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Right: A lateral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lumbar spine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re-processed as a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thoracic spine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shows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improved visibility of those vertebrae within the lung fiel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5" descr="C:\Documents and Settings\Quinn Carroll\My Documents\DigRadTEXT\SLIDES\30-04a.pct"/>
          <p:cNvPicPr/>
          <p:nvPr/>
        </p:nvPicPr>
        <p:blipFill>
          <a:blip r:embed="rId1"/>
          <a:stretch/>
        </p:blipFill>
        <p:spPr>
          <a:xfrm>
            <a:off x="5181480" y="1447920"/>
            <a:ext cx="322416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Exposure Indicator Error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nything which can lead to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histogram analysis errors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an cause the exposure indicator to be corrupt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traneous exposure information, including scatt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osure field recognition erro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Unexpected material in fie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llimation margins not detect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treme underexposure or overexposu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lay in process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5717-D737-4DFD-B322-43EE75A6E6F7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Picture 5" descr="Artifact_CR_poor_screen_cleaning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3643-E906-4904-A6C9-5118854E1BA3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6" name="Picture 5" descr="Artifact_bar_code_artefact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8E07-7B31-4667-BB0C-DC848E6CEFB5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1" name="Picture 5" descr="Error_equipment_artifact_cr_reader_2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38E9-1CCF-4CD5-9067-BC02C2F87AEB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6" name="Picture 5" descr="Error_chest_wrong_lut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SRT Objectiv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ssociate impact of image processing parameters to the image appearance.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mulate a procedure or process to minimize histogram analysis and rescaling errors.   (SEE PAGE 586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7EFA-82A9-4ED3-A7DC-02824DA5E7D6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1" name="Picture 5" descr="Error_abdomen_cr_drop_ou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Notes: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rejec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utton on most systems results in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permanen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loss of the image, making “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peat” analysis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hard to perform. When prompted to enter the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reason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or a reject, it is important to enter an honest answer rather than “other.” Departments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mus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ind ways to make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ject analysis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ossible, for several professional and ethical reason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AY ATTENTION TO PAGE 58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computed radiography image is taken at 66 kVp and 11 mAs with a 12:1 Grid at 60 inches.  The computer tries to fix the image, but the exposure index values indicate underexposure.  A new image needs to be taken, but the patient has been moved and now you as the technologist can only get a 40" SID.  What should the new technique b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SPEED.bmp"/>
          <p:cNvPicPr/>
          <p:nvPr/>
        </p:nvPicPr>
        <p:blipFill>
          <a:blip r:embed="rId1"/>
          <a:stretch/>
        </p:blipFill>
        <p:spPr>
          <a:xfrm>
            <a:off x="838080" y="3581280"/>
            <a:ext cx="7543800" cy="2882880"/>
          </a:xfrm>
          <a:prstGeom prst="rect">
            <a:avLst/>
          </a:prstGeom>
          <a:ln w="0">
            <a:noFill/>
          </a:ln>
        </p:spPr>
      </p:pic>
      <p:sp>
        <p:nvSpPr>
          <p:cNvPr id="112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0F6A-990E-4975-98B9-5EF1A78E81BB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Speed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 CR, most cassettes have the same speed; however, there are special extremity or chest cassettes that produce greater resolution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se are typically 200 relative spee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D6DB-FF18-4A60-A2CE-511122633D12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Magnificatio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ther technique is “zoom.”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Zoom allows magnification of the entire imag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mage can be enlarged enough that only parts of it are visible on the scree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ose parts can be seen through mouse navigatio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Picture 4" descr="007011A"/>
          <p:cNvPicPr/>
          <p:nvPr/>
        </p:nvPicPr>
        <p:blipFill>
          <a:blip r:embed="rId1"/>
          <a:stretch/>
        </p:blipFill>
        <p:spPr>
          <a:xfrm>
            <a:off x="228600" y="3429000"/>
            <a:ext cx="3200400" cy="342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007011B"/>
          <p:cNvPicPr/>
          <p:nvPr/>
        </p:nvPicPr>
        <p:blipFill>
          <a:blip r:embed="rId2"/>
          <a:stretch/>
        </p:blipFill>
        <p:spPr>
          <a:xfrm>
            <a:off x="4800600" y="3581280"/>
            <a:ext cx="3809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2380-FC89-4A6E-99EC-061A979DFF3B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Smooth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5" name="Picture 2" descr="https://encrypted-tbn1.gstatic.com/images?q=tbn:ANd9GcRwqap9pn4IH9nPg75c98PMt-DxFyBEyp1lsJ-eqWiSmIkt8rncpw"/>
          <p:cNvPicPr/>
          <p:nvPr/>
        </p:nvPicPr>
        <p:blipFill>
          <a:blip r:embed="rId1"/>
          <a:stretch/>
        </p:blipFill>
        <p:spPr>
          <a:xfrm>
            <a:off x="990720" y="2286000"/>
            <a:ext cx="7696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F8F9-7F58-46A2-80A7-75A8EEE4664D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Edge Enhancement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9" name="Picture 9" descr="MATRIX RESOLUTION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4876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xample of Edge Enhancement,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1" name="Picture 3" descr="C:\Documents and Settings\Quinn Carroll\My Documents\DigRadTEXT\SLIDES\29-30A.pct"/>
          <p:cNvPicPr/>
          <p:nvPr/>
        </p:nvPicPr>
        <p:blipFill>
          <a:blip r:embed="rId1"/>
          <a:stretch/>
        </p:blipFill>
        <p:spPr>
          <a:xfrm>
            <a:off x="1066680" y="685800"/>
            <a:ext cx="3314880" cy="4167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C:\Documents and Settings\Quinn Carroll\My Documents\DigRadTEXT\SLIDES\29-30B.pct"/>
          <p:cNvPicPr/>
          <p:nvPr/>
        </p:nvPicPr>
        <p:blipFill>
          <a:blip r:embed="rId2"/>
          <a:stretch/>
        </p:blipFill>
        <p:spPr>
          <a:xfrm>
            <a:off x="5029200" y="762120"/>
            <a:ext cx="3213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Black Mask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Picture 4" descr="007008A"/>
          <p:cNvPicPr/>
          <p:nvPr/>
        </p:nvPicPr>
        <p:blipFill>
          <a:blip r:embed="rId1"/>
          <a:stretch/>
        </p:blipFill>
        <p:spPr>
          <a:xfrm>
            <a:off x="685800" y="1981080"/>
            <a:ext cx="2895480" cy="4023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007008B"/>
          <p:cNvPicPr/>
          <p:nvPr/>
        </p:nvPicPr>
        <p:blipFill>
          <a:blip r:embed="rId2"/>
          <a:srcRect l="6518" t="0" r="0" b="7318"/>
          <a:stretch/>
        </p:blipFill>
        <p:spPr>
          <a:xfrm>
            <a:off x="5410080" y="1981080"/>
            <a:ext cx="29718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98C2-2FEA-4230-A6A2-6F0B8C32138C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Collimation vs. Shutter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s results in increased contrast because of the reduction of scatter as fog and reduces the amount of grid cleanup necessary for increased resolution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rough post exposure image manipulation known as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huttering,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a black background can be added around the original collimation edges, virtually eliminating the distracting white or clear area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1" name="Picture 7" descr="FOOT.bmp"/>
          <p:cNvPicPr/>
          <p:nvPr/>
        </p:nvPicPr>
        <p:blipFill>
          <a:blip r:embed="rId1"/>
          <a:stretch/>
        </p:blipFill>
        <p:spPr>
          <a:xfrm>
            <a:off x="1981080" y="3657600"/>
            <a:ext cx="2540160" cy="274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FOOT 2.bmp"/>
          <p:cNvPicPr/>
          <p:nvPr/>
        </p:nvPicPr>
        <p:blipFill>
          <a:blip r:embed="rId2"/>
          <a:stretch/>
        </p:blipFill>
        <p:spPr>
          <a:xfrm>
            <a:off x="4876920" y="3657600"/>
            <a:ext cx="243828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22:54:50Z</dcterms:created>
  <dc:creator>Quinn B Carroll</dc:creator>
  <dc:description/>
  <dc:language>en-US</dc:language>
  <cp:lastModifiedBy>PCSUPPORT</cp:lastModifiedBy>
  <dcterms:modified xsi:type="dcterms:W3CDTF">2014-02-03T16:15:23Z</dcterms:modified>
  <cp:revision>18</cp:revision>
  <dc:subject/>
  <dc:title>PowerPoint Slides for</dc:title>
</cp:coreProperties>
</file>