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4.jpeg" ContentType="image/jpeg"/>
  <Override PartName="/ppt/media/image25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462B8-9885-43FA-8F34-39631590E2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FD31-67C8-4851-9A26-1865741FC337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formation other than standard identification must be added to the im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screen/film radiography, additional information is marked by the follow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me and date stick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ease penci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rmanent mark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49B1-BA39-48ED-AAED-B24C9BD0F9B6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itching is used for anatomy or areas of interest too large to fit on one cassette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ultiple images can be “stitched” together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metimes, special cassette holders are used and positioned vertically, corresponding to foot to hip or entire spine radiograph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F598B-A7E9-4194-A18D-40A0999FC214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OR CR CLEA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B7F1-D3CE-49AF-A593-DD235E9958B1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 DR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A494-F846-40B9-BF19-EBC51DA0E6D5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ROR IN L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F70BF-3B5C-47D8-8E2B-51E200C504F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 DROP O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603A9-CB75-4FDF-B078-53A26C8AFB7F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3C23-7B36-4E77-ACFB-EAD15ED229EF}" type="slidenum"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842B-EDE4-4E55-884B-FB35DA077256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ES THIS CHAPTER TALK ABOUT THE SPEED OF THE DETECTO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PEED IS DETERMINED BY HOW EFFICIENTLY THE DETECTOR/DR CASSETTE CONVERTS X-RAY PHOTONS INTO ELECTRONIC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STER THE SPEED, THE LESS PHOTONS ARE NEEDED TO CONVERT, BUT THE LESS RESOLUTION YOU WILL HA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2EA5-CA60-43F4-BAA8-14DDFD026BB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NOT PERMA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1F2A-8D31-4F62-A347-2213B86CAD9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SMOOTHING, MORE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ult is a reduction of noise and contra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-pass filtering is useful for viewing small structures such as fine bone tissues.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F9C8-7C2A-42EA-B4A8-AE7F8EF16253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TO BRING OUT THE OUT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PRODUCES A SHORTER SCALE OF CONTRAST AND MAKES EDGES APPEAR SHAR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SIGNALS FROM EACH PIXEL ARE AVERAGED TOGETHER.  THE MORE PIXELS INVOLVED IN THE CALCULATION, THE SMOOTHER THE PICTURE APPEARS.  WITH EDGE ENHANCEMENT, FEWER PIXELS ARE AVERAGED TOGE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SO KNOWN AS HIGH PASS FILTER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N RESULT IN LOSS OF DETAIL OR INFORMATION – SHOULD ONLY BE USED WHILE VIEWING ( POST PACS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81DE9-53BC-44F3-B3BD-17F5FA6D0258}" type="slidenum">
              <a:rPr b="0" lang="en-US" sz="1200" spc="-1" strike="noStrike">
                <a:solidFill>
                  <a:srgbClr val="ffffcc"/>
                </a:solidFill>
                <a:latin typeface="Times New Roman"/>
                <a:ea typeface="MS PGothic"/>
              </a:rPr>
              <a:t>&lt;number&gt;</a:t>
            </a:fld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ufficient collimation results in unattenuated radiation striking the imaging plat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sulting histogram is changed so that it is outside the normal exposure indicator range for the part selecte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smallest imaging plate possible and proper collimation, especially on small or thin patients, eliminates this erro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EB11-5E52-47F8-9FE9-1EE5B4AB2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5A5A-9F9A-43A4-B1E2-C5DF5652A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C15E-BE9D-4D90-9449-C0FE8E7D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1B39-041C-454C-9146-B583427D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10040-36AD-40FD-A52B-BC857945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EB83-B5A3-4F0A-A6B1-AFF690D6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768C-67F5-4EB6-BB00-E53392E6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D402-E07D-410E-93B3-E1F19EF63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0F175-78C2-487F-89A2-0715675A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5CA75-FF60-480E-97AB-61C4442B8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37C8E-4297-43F4-8B68-D2096B36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E047-2168-49D9-BEA1-4A584B6D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9B58-E547-43E3-8AFC-4682A52A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CA7C-29AC-4F9A-842B-8DA141432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FC54-9C0C-4EFE-A544-12CB8FFA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18C0-67F8-405D-9E27-F0B9A3B9E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DBFE3-640F-4891-B49D-AEC74BCE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AC4F-52BA-4F4F-BF9B-787DF8916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DBF1-636A-4EF7-8960-561CD97D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3F66-2EB9-4AC3-B7AF-90366362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BFFC-3C83-4EEB-A249-74522912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5D04-0925-4869-A5D8-1F95C101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F4EB-5D68-4291-9230-2EC9994E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F802-466B-442C-B13A-DDEDA30A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819CC-A5BB-402F-B54F-47B2EB5BE8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026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1027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1028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1029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1030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1031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1032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1033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34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B70F-C69F-44E1-A7FF-4312CA0DEC3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OCESSING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PERATIONS</a:t>
            </a:r>
            <a:br>
              <a:rPr sz="44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IN</a:t>
            </a:r>
            <a:br>
              <a:rPr sz="3200"/>
            </a:b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048120" y="4419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HAPTER 30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2800"/>
            </a:b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Image Reversal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44" name="Content Placeholder 3" descr="hsg-tubal-spasm.jpg"/>
          <p:cNvPicPr/>
          <p:nvPr/>
        </p:nvPicPr>
        <p:blipFill>
          <a:blip r:embed="rId1"/>
          <a:stretch/>
        </p:blipFill>
        <p:spPr>
          <a:xfrm>
            <a:off x="228600" y="1981080"/>
            <a:ext cx="3809880" cy="44960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hsg1.jpg"/>
          <p:cNvPicPr/>
          <p:nvPr/>
        </p:nvPicPr>
        <p:blipFill>
          <a:blip r:embed="rId2"/>
          <a:srcRect l="0" t="0" r="0" b="13545"/>
          <a:stretch/>
        </p:blipFill>
        <p:spPr>
          <a:xfrm>
            <a:off x="4800600" y="1981080"/>
            <a:ext cx="40068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4DC7-8D68-4C11-93F9-966D2C3ED5F2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Annot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overlay the image as bitmap imag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Annotations may not transfer to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icture archival and communication system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(PAC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nput of annotation for identification of the patient’s left or right side should never be used as a substitute for technologist’s anatomy marker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4" descr="007010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017F-8A0E-42DA-8522-D356ADFE8391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Image Stitc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mages are processed in computer programs that nearly seamlessly join the anatom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omputer displays one single imag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rocess eliminates the need for large (36-inch) cassettes previously used in film/screen radiograph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5" name="Picture 4" descr="007009A"/>
          <p:cNvPicPr/>
          <p:nvPr/>
        </p:nvPicPr>
        <p:blipFill>
          <a:blip r:embed="rId1"/>
          <a:stretch/>
        </p:blipFill>
        <p:spPr>
          <a:xfrm>
            <a:off x="380880" y="4191120"/>
            <a:ext cx="2590920" cy="20574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007009B"/>
          <p:cNvPicPr/>
          <p:nvPr/>
        </p:nvPicPr>
        <p:blipFill>
          <a:blip r:embed="rId2"/>
          <a:stretch/>
        </p:blipFill>
        <p:spPr>
          <a:xfrm>
            <a:off x="3657600" y="4191120"/>
            <a:ext cx="2438280" cy="22096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007009C"/>
          <p:cNvPicPr/>
          <p:nvPr/>
        </p:nvPicPr>
        <p:blipFill>
          <a:blip r:embed="rId3"/>
          <a:stretch/>
        </p:blipFill>
        <p:spPr>
          <a:xfrm>
            <a:off x="7086600" y="4191120"/>
            <a:ext cx="205740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C:\Documents and Settings\Quinn Carroll\My Documents\DigRadTEXT\LCDphotos\Fig30-12AA.jpg"/>
          <p:cNvPicPr/>
          <p:nvPr/>
        </p:nvPicPr>
        <p:blipFill>
          <a:blip r:embed="rId1"/>
          <a:stretch/>
        </p:blipFill>
        <p:spPr>
          <a:xfrm>
            <a:off x="838080" y="533520"/>
            <a:ext cx="2462400" cy="57434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3" descr="C:\Documents and Settings\Quinn Carroll\My Documents\DigRadTEXT\LCDphotos\Fig30-12BB.jpg"/>
          <p:cNvPicPr/>
          <p:nvPr/>
        </p:nvPicPr>
        <p:blipFill>
          <a:blip r:embed="rId2"/>
          <a:stretch/>
        </p:blipFill>
        <p:spPr>
          <a:xfrm>
            <a:off x="3505320" y="533520"/>
            <a:ext cx="2433600" cy="57625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6324480" y="533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248520" y="609480"/>
            <a:ext cx="25905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R Scoliosis Seri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mage Stitching feature shows seam lines between 3 imag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OTHER THINGS THAT CAN AFFECT THE IMAGE: 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Alternative Algorithms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One way to adjust the contrast and brightness characteristics of an image is to re-process it under a different pre-set anatomical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ight: A lateral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lumbar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re-processed as a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thoracic spine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shows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improved visibility of those vertebrae within the lung fiel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4" name="Picture 5" descr="C:\Documents and Settings\Quinn Carroll\My Documents\DigRadTEXT\SLIDES\30-04a.pct"/>
          <p:cNvPicPr/>
          <p:nvPr/>
        </p:nvPicPr>
        <p:blipFill>
          <a:blip r:embed="rId1"/>
          <a:stretch/>
        </p:blipFill>
        <p:spPr>
          <a:xfrm>
            <a:off x="5181480" y="1447920"/>
            <a:ext cx="3224160" cy="46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Exposure Indicator Errors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ything which can lead to </a:t>
            </a:r>
            <a:r>
              <a:rPr b="0" i="1" lang="en-US" sz="2400" spc="-1" strike="noStrike">
                <a:solidFill>
                  <a:srgbClr val="ffffcc"/>
                </a:solidFill>
                <a:latin typeface="Arial"/>
              </a:rPr>
              <a:t>histogram analysis errors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an cause the exposure indicator to be corrup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aneous exposure information, including scat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osure field recognition erro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Unexpected material in fiel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ollimation margins not detect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treme underexposure or overexposu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lay in processin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0B3D6-D5D0-44F6-9BF2-62AECE3642B8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1" name="Picture 5" descr="Artifact_CR_poor_screen_cleaning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6254-34CF-495E-AE24-B307009E675C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6" name="Picture 5" descr="Artifact_bar_code_artefac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19E60-201E-4B3E-BD5C-666D85D3E408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1" name="Picture 5" descr="Error_equipment_artifact_cr_reader_2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0D587-FD06-47B0-81CD-8D6290D95EDD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6" name="Picture 5" descr="Error_chest_wrong_lut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SRT Objectiv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ssociate impact of image processing parameters to the image appearance. 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mulate a procedure or process to minimize histogram analysis and rescaling errors.   (SEE PAGE 586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838080" y="624852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Copyright © 2006 by Thomson Delmar Learning. ALL RIGHTS RESERVED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F9E51-C582-4A09-A368-0764ED957D1B}" type="slidenum">
              <a:rPr b="0" lang="en-US" sz="1400" spc="-1" strike="noStrike">
                <a:solidFill>
                  <a:srgbClr val="66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1" name="Picture 5" descr="Error_abdomen_cr_drop_ou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Notes: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jec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utton on most systems results in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permanen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oss of the image, making “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peat”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hard to perform. When prompted to enter the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reason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r a reject, it is important to enter an honest answer rather than “other.” Departments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must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ind ways to make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reject analysis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ossible, for several professional and ethical reason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AY ATTENTION TO PAGE 58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computed radiography image is taken at 66 kVp and 11 mAs with a 12:1 Grid at 60 inches.  The computer tries to fix the image, but the exposure index values indicate underexposure.  A new image needs to be taken, but the patient has been moved and now you as the technologist can only get a 40" SID.  What should the new technique be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SPEED.bmp"/>
          <p:cNvPicPr/>
          <p:nvPr/>
        </p:nvPicPr>
        <p:blipFill>
          <a:blip r:embed="rId1"/>
          <a:stretch/>
        </p:blipFill>
        <p:spPr>
          <a:xfrm>
            <a:off x="838080" y="3581280"/>
            <a:ext cx="7543800" cy="2882880"/>
          </a:xfrm>
          <a:prstGeom prst="rect">
            <a:avLst/>
          </a:prstGeom>
          <a:ln w="0">
            <a:noFill/>
          </a:ln>
        </p:spPr>
      </p:pic>
      <p:sp>
        <p:nvSpPr>
          <p:cNvPr id="11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D383-ACCD-47C2-937D-9FCB557CA9F6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Speed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n CR, most cassettes have the same speed; however, there are special extremity or chest cassettes that produce greater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ese are typically 200 relative spee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E7D4-FF89-45F0-AD0C-2590188A175C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Magnification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Other technique is “zoom.”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Zoom allows magnification of the entire ima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Image can be enlarged enough that only parts of it are visible on the scree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hose parts can be seen through mouse navigatio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Picture 4" descr="007011A"/>
          <p:cNvPicPr/>
          <p:nvPr/>
        </p:nvPicPr>
        <p:blipFill>
          <a:blip r:embed="rId1"/>
          <a:stretch/>
        </p:blipFill>
        <p:spPr>
          <a:xfrm>
            <a:off x="228600" y="3429000"/>
            <a:ext cx="3200400" cy="342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007011B"/>
          <p:cNvPicPr/>
          <p:nvPr/>
        </p:nvPicPr>
        <p:blipFill>
          <a:blip r:embed="rId2"/>
          <a:stretch/>
        </p:blipFill>
        <p:spPr>
          <a:xfrm>
            <a:off x="4800600" y="3581280"/>
            <a:ext cx="380988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2A1A3-152D-4B8D-B312-C8439106C991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Smooth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5" name="Picture 2" descr="https://encrypted-tbn1.gstatic.com/images?q=tbn:ANd9GcRwqap9pn4IH9nPg75c98PMt-DxFyBEyp1lsJ-eqWiSmIkt8rncpw"/>
          <p:cNvPicPr/>
          <p:nvPr/>
        </p:nvPicPr>
        <p:blipFill>
          <a:blip r:embed="rId1"/>
          <a:stretch/>
        </p:blipFill>
        <p:spPr>
          <a:xfrm>
            <a:off x="990720" y="2286000"/>
            <a:ext cx="7696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CA29F-118F-41B1-97C9-C0061D152628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Edge Enhancement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29" name="Picture 9" descr="MATRIX RESOLUTION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4876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Example of Edge Enhancement, </a:t>
            </a:r>
            <a:r>
              <a:rPr b="1" i="1" lang="en-US" sz="2800" spc="-1" strike="noStrike">
                <a:solidFill>
                  <a:srgbClr val="ffcc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31" name="Picture 3" descr="C:\Documents and Settings\Quinn Carroll\My Documents\DigRadTEXT\SLIDES\29-30A.pct"/>
          <p:cNvPicPr/>
          <p:nvPr/>
        </p:nvPicPr>
        <p:blipFill>
          <a:blip r:embed="rId1"/>
          <a:stretch/>
        </p:blipFill>
        <p:spPr>
          <a:xfrm>
            <a:off x="1066680" y="685800"/>
            <a:ext cx="3314880" cy="4167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C:\Documents and Settings\Quinn Carroll\My Documents\DigRadTEXT\SLIDES\29-30B.pct"/>
          <p:cNvPicPr/>
          <p:nvPr/>
        </p:nvPicPr>
        <p:blipFill>
          <a:blip r:embed="rId2"/>
          <a:stretch/>
        </p:blipFill>
        <p:spPr>
          <a:xfrm>
            <a:off x="5029200" y="762120"/>
            <a:ext cx="3213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OTHER THINGS THAT CAN AFFECT THE IMAGE SENT TO PACS: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Times New Roman"/>
              </a:rPr>
              <a:t>Black Mask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5" name="Picture 4" descr="007008A"/>
          <p:cNvPicPr/>
          <p:nvPr/>
        </p:nvPicPr>
        <p:blipFill>
          <a:blip r:embed="rId1"/>
          <a:stretch/>
        </p:blipFill>
        <p:spPr>
          <a:xfrm>
            <a:off x="685800" y="1981080"/>
            <a:ext cx="2895480" cy="4023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007008B"/>
          <p:cNvPicPr/>
          <p:nvPr/>
        </p:nvPicPr>
        <p:blipFill>
          <a:blip r:embed="rId2"/>
          <a:srcRect l="6518" t="0" r="0" b="7318"/>
          <a:stretch/>
        </p:blipFill>
        <p:spPr>
          <a:xfrm>
            <a:off x="5410080" y="1981080"/>
            <a:ext cx="297180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Elsevier items and derived items © 2008 by Mosby, Inc., an affiliate of Elsevier Inc.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715A8-8768-49A1-9646-1F683AB68CF2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000"/>
                </a:solidFill>
                <a:latin typeface="Times New Roman"/>
              </a:rPr>
              <a:t>Collimation vs. Shuttering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results in increased contrast because of the reduction of scatter as fog and reduces the amount of grid cleanup necessary for increased resolution.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rough post exposure image manipulation known as </a:t>
            </a:r>
            <a:r>
              <a:rPr b="1" lang="en-US" sz="2400" spc="-1" strike="noStrike">
                <a:solidFill>
                  <a:srgbClr val="ffffcc"/>
                </a:solidFill>
                <a:latin typeface="Times New Roman"/>
              </a:rPr>
              <a:t>shuttering,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a black background can be added around the original collimation edges, virtually eliminating the distracting white or clear areas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1" name="Picture 7" descr="FOOT.bmp"/>
          <p:cNvPicPr/>
          <p:nvPr/>
        </p:nvPicPr>
        <p:blipFill>
          <a:blip r:embed="rId1"/>
          <a:stretch/>
        </p:blipFill>
        <p:spPr>
          <a:xfrm>
            <a:off x="1981080" y="3657600"/>
            <a:ext cx="2540160" cy="2743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FOOT 2.bmp"/>
          <p:cNvPicPr/>
          <p:nvPr/>
        </p:nvPicPr>
        <p:blipFill>
          <a:blip r:embed="rId2"/>
          <a:stretch/>
        </p:blipFill>
        <p:spPr>
          <a:xfrm>
            <a:off x="4876920" y="3657600"/>
            <a:ext cx="24382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22:54:50Z</dcterms:created>
  <dc:creator>Quinn B Carroll</dc:creator>
  <dc:description/>
  <dc:language>en-US</dc:language>
  <cp:lastModifiedBy>PCSUPPORT</cp:lastModifiedBy>
  <dcterms:modified xsi:type="dcterms:W3CDTF">2014-02-03T16:15:23Z</dcterms:modified>
  <cp:revision>18</cp:revision>
  <dc:subject/>
  <dc:title>PowerPoint Slides for</dc:title>
</cp:coreProperties>
</file>