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9.jpeg" ContentType="image/jpeg"/>
  <Override PartName="/ppt/media/image13.jpeg" ContentType="image/jpeg"/>
  <Override PartName="/ppt/media/image8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5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4.jpeg" ContentType="image/jpeg"/>
  <Override PartName="/ppt/media/image2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7F510-3473-49D1-AC3D-DC3004C880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E7E31-0E2A-4073-AEC0-30BC17AB4183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formation other than standard identification must be added to the im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screen/film radiography, additional information is marked by the follow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ime and date stick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ease penci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manent marke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BDAD0-A872-4086-B7A8-BB9AAEA4DB2A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itching is used for anatomy or areas of interest too large to fit on one cassette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ultiple images can be “stitched” together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metimes, special cassette holders are used and positioned vertically, corresponding to foot to hip or entire spine radiography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1A201-FB9E-4C95-90F3-C247EA8C33A3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OR CR CLEA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64A2A-D9F5-4DCB-944B-475935AB72A2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 DR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43C7C-D2D1-48AA-A9F0-20E2B15EE4DD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ROR IN L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0CC5C-43BA-4D84-8F56-774AE792A32D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 DROP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B23D2-9DDB-4C40-829B-093178DCA257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2A56E-55C2-4B79-B0D2-1182DB919CDD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4F42-E994-4153-8B50-968E9827AA7F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ES THIS CHAPTER TALK ABOUT THE SPEED OF THE DETECTO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PEED IS DETERMINED BY HOW EFFICIENTLY THE DETECTOR/DR CASSETTE CONVERTS X-RAY PHOTONS INTO ELECTRONIC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STER THE SPEED, THE LESS PHOTONS ARE NEEDED TO CONVERT, BUT THE LESS RESOLUTION YOU WILL HA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9E8CD-8582-4001-884F-B1C1E9159C97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LY NOT PERMAN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E3285-2856-4BEC-AA75-19138377E2FC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LY SIGNALS FROM EACH PIXEL ARE AVERAGED TOGETHER.  THE MORE PIXELS INVOLVED IN THE CALCULATION, THE SMOOTHER THE PICTURE APPEARS.  WITH SMOOTHING, MORE PIXELS ARE AVERAGED 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ult is a reduction of noise and contra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-pass filtering is useful for viewing small structures such as fine bone tissues.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C1ED-95EA-4C7B-BF44-7966CF4E2CC7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TO BRING OUT THE OUT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LY PRODUCES A SHORTER SCALE OF CONTRAST AND MAKES EDGES APPEAR SHARP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LY SIGNALS FROM EACH PIXEL ARE AVERAGED TOGETHER.  THE MORE PIXELS INVOLVED IN THE CALCULATION, THE SMOOTHER THE PICTURE APPEARS.  WITH EDGE ENHANCEMENT, FEWER PIXELS ARE AVERAGED 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LSO KNOWN AS HIGH PASS FILTER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AN RESULT IN LOSS OF DETAIL OR INFORMATION – SHOULD ONLY BE USED WHILE VIEWING ( POST PACS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4EA2E-C2E1-40DC-A9FE-FD24B09C36AE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ufficient collimation results in unattenuated radiation striking the imaging plat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sulting histogram is changed so that it is outside the normal exposure indicator range for the part selecte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smallest imaging plate possible and proper collimation, especially on small or thin patients, eliminates this error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0188-15D6-4F9F-A532-337ABEC5D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C02B-CDDF-4A0C-B39A-49E348036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BA22-69DD-480E-B8BC-B65FAFCE0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8B25-65EE-4E0C-AC7B-081466ED6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8A719-B765-4CFA-BA5C-C88BB2D7A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912A7-AB05-4363-9BD1-F22D98F6D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4890D-5F19-43A2-840E-B4DDBEBAA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994E7-9FFD-470D-8BA1-9C76CC25E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DBC52-61C2-41E0-AE54-11FDA68EF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37531-1367-4BAB-B8B2-ADCA06866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A5A3B-02AB-4D58-8EC3-A9C58625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6D99-BCB5-439E-AA17-971FB96D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E188F-4EA8-4639-82D0-1997267C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F885C-F507-45A6-A035-CC97F412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71C77-DE31-4DD4-9523-81A4650EC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0361B-A8AA-4080-AF50-337DAE7F7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D3E1F-923C-4BCC-9C46-4B98FC0D4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AC84-4BC6-48D1-8CEB-97CCF12D5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971A-00AA-4332-9D3A-1B34CDA1F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D259-2065-49F6-9BC2-40911CFCF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DB98-114D-4C3F-BA05-5F84768EF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A5CE-8FE5-4E01-AC7E-73EF45D6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60F0-BEFA-4B6C-824E-9CF4CA3C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B723-E593-44BD-A9AE-221FED9B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A1BA5-4823-46CB-B20D-4790881A33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026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1027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Freeform 1028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Freeform 1029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Freeform 1030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Freeform 1031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Freeform 1032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Freeform 1033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Freeform 1034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836A2-B772-45B5-8460-ECB00B9D8A13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PROCESSING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OPERATIONS</a:t>
            </a:r>
            <a:br>
              <a:rPr sz="4400"/>
            </a:b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IN</a:t>
            </a:r>
            <a:br>
              <a:rPr sz="3200"/>
            </a:b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048120" y="44197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HAPTER 3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2800"/>
            </a:b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Image Reversal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44" name="Content Placeholder 3" descr="hsg-tubal-spasm.jpg"/>
          <p:cNvPicPr/>
          <p:nvPr/>
        </p:nvPicPr>
        <p:blipFill>
          <a:blip r:embed="rId1"/>
          <a:stretch/>
        </p:blipFill>
        <p:spPr>
          <a:xfrm>
            <a:off x="228600" y="1981080"/>
            <a:ext cx="3809880" cy="44960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hsg1.jpg"/>
          <p:cNvPicPr/>
          <p:nvPr/>
        </p:nvPicPr>
        <p:blipFill>
          <a:blip r:embed="rId2"/>
          <a:srcRect l="0" t="0" r="0" b="13545"/>
          <a:stretch/>
        </p:blipFill>
        <p:spPr>
          <a:xfrm>
            <a:off x="4800600" y="1981080"/>
            <a:ext cx="40068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00E78-7EB9-4C8A-967A-95FC797775F9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Image Annotation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5105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nnotations overlay the image as bitmap imag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nnotations may not transfer to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icture archival and communication system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(PAC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nput of annotation for identification of the patient’s left or right side should never be used as a substitute for technologist’s anatomy marker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0" name="Picture 4" descr="007010"/>
          <p:cNvPicPr/>
          <p:nvPr/>
        </p:nvPicPr>
        <p:blipFill>
          <a:blip r:embed="rId1"/>
          <a:stretch/>
        </p:blipFill>
        <p:spPr>
          <a:xfrm>
            <a:off x="5638680" y="1981080"/>
            <a:ext cx="32767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FD411-EC33-4A28-BC36-50DAFDAB12D8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Image Stitching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mages are processed in computer programs that nearly seamlessly join the anatom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mputer displays one single imag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ocess eliminates the need for large (36-inch) cassettes previously used in film/screen radiograph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5" name="Picture 4" descr="007009A"/>
          <p:cNvPicPr/>
          <p:nvPr/>
        </p:nvPicPr>
        <p:blipFill>
          <a:blip r:embed="rId1"/>
          <a:stretch/>
        </p:blipFill>
        <p:spPr>
          <a:xfrm>
            <a:off x="380880" y="4191120"/>
            <a:ext cx="2590920" cy="2057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007009B"/>
          <p:cNvPicPr/>
          <p:nvPr/>
        </p:nvPicPr>
        <p:blipFill>
          <a:blip r:embed="rId2"/>
          <a:stretch/>
        </p:blipFill>
        <p:spPr>
          <a:xfrm>
            <a:off x="3657600" y="4191120"/>
            <a:ext cx="2438280" cy="22096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007009C"/>
          <p:cNvPicPr/>
          <p:nvPr/>
        </p:nvPicPr>
        <p:blipFill>
          <a:blip r:embed="rId3"/>
          <a:stretch/>
        </p:blipFill>
        <p:spPr>
          <a:xfrm>
            <a:off x="7086600" y="4191120"/>
            <a:ext cx="20574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C:\Documents and Settings\Quinn Carroll\My Documents\DigRadTEXT\LCDphotos\Fig30-12AA.jpg"/>
          <p:cNvPicPr/>
          <p:nvPr/>
        </p:nvPicPr>
        <p:blipFill>
          <a:blip r:embed="rId1"/>
          <a:stretch/>
        </p:blipFill>
        <p:spPr>
          <a:xfrm>
            <a:off x="838080" y="533520"/>
            <a:ext cx="2462400" cy="5743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C:\Documents and Settings\Quinn Carroll\My Documents\DigRadTEXT\LCDphotos\Fig30-12BB.jpg"/>
          <p:cNvPicPr/>
          <p:nvPr/>
        </p:nvPicPr>
        <p:blipFill>
          <a:blip r:embed="rId2"/>
          <a:stretch/>
        </p:blipFill>
        <p:spPr>
          <a:xfrm>
            <a:off x="3505320" y="533520"/>
            <a:ext cx="2433600" cy="576252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6324480" y="533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6248520" y="609480"/>
            <a:ext cx="259056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CR Scoliosis Ser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Image Stitching feature shows seam lines between 3 imag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OTHER THINGS THAT CAN AFFECT THE IMAGE: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Alternative Algorithms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One way to adjust the contrast and brightness characteristics of an image is to re-process it under a different pre-set anatomical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algorith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Right: A lateral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lumbar spine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re-processed as a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thoracic spine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shows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improved visibility of those vertebrae within the lung fiel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4" name="Picture 5" descr="C:\Documents and Settings\Quinn Carroll\My Documents\DigRadTEXT\SLIDES\30-04a.pct"/>
          <p:cNvPicPr/>
          <p:nvPr/>
        </p:nvPicPr>
        <p:blipFill>
          <a:blip r:embed="rId1"/>
          <a:stretch/>
        </p:blipFill>
        <p:spPr>
          <a:xfrm>
            <a:off x="5181480" y="1447920"/>
            <a:ext cx="322416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Exposure Indicator Error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nything which can lead to 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histogram analysis errors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an cause the exposure indicator to be corrupt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traneous exposure information, including scatte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osure field recognition erro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Unexpected material in fiel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ollimation margins not detecte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treme underexposure or overexposur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elay in processin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F300C-F2B8-4DCE-9268-CE52600A4CE0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1" name="Picture 5" descr="Artifact_CR_poor_screen_cleaning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A34B3-A546-4A31-8698-E4D1E5C35446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6" name="Picture 5" descr="Artifact_bar_code_artefact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2FB2E-E2B6-4A33-8E28-2AF94952975E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1" name="Picture 5" descr="Error_equipment_artifact_cr_reader_2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0DAC2-DA7E-4A9E-8782-EBA6BDE4FBCA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6" name="Picture 5" descr="Error_chest_wrong_lut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SRT Objectiv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ssociate impact of image processing parameters to the image appearance. 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rmulate a procedure or process to minimize histogram analysis and rescaling errors.   (SEE PAGE 586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DCFA6-A269-4283-834A-B5EF1DD40E18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1" name="Picture 5" descr="Error_abdomen_cr_drop_ou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Notes: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reject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button on most systems results in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permanent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loss of the image, making “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repeat” analysis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hard to perform. When prompted to enter the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reason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for a reject, it is important to enter an honest answer rather than “other.” Departments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must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find ways to make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reject analysis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ossible, for several professional and ethical reason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AY ATTENTION TO PAGE 58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computed radiography image is taken at 66 kVp and 11 mAs with a 12:1 Grid at 60 inches.  The computer tries to fix the image, but the exposure index values indicate underexposure.  A new image needs to be taken, but the patient has been moved and now you as the technologist can only get a 40" SID.  What should the new technique b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SPEED.bmp"/>
          <p:cNvPicPr/>
          <p:nvPr/>
        </p:nvPicPr>
        <p:blipFill>
          <a:blip r:embed="rId1"/>
          <a:stretch/>
        </p:blipFill>
        <p:spPr>
          <a:xfrm>
            <a:off x="838080" y="3581280"/>
            <a:ext cx="7543800" cy="2882880"/>
          </a:xfrm>
          <a:prstGeom prst="rect">
            <a:avLst/>
          </a:prstGeom>
          <a:ln w="0">
            <a:noFill/>
          </a:ln>
        </p:spPr>
      </p:pic>
      <p:sp>
        <p:nvSpPr>
          <p:cNvPr id="112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652A8-0A69-491F-AAB8-251916CC567E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Times New Roman"/>
              </a:rPr>
              <a:t>Speed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1536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 CR, most cassettes have the same speed; however, there are special extremity or chest cassettes that produce greater resolution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se are typically 200 relative spee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AE33A-C480-40B4-B7EC-223A9F2AEE6B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Magnification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Other technique is “zoom.”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Zoom allows magnification of the entire imag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mage can be enlarged enough that only parts of it are visible on the scree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Those parts can be seen through mouse navigatio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0" name="Picture 4" descr="007011A"/>
          <p:cNvPicPr/>
          <p:nvPr/>
        </p:nvPicPr>
        <p:blipFill>
          <a:blip r:embed="rId1"/>
          <a:stretch/>
        </p:blipFill>
        <p:spPr>
          <a:xfrm>
            <a:off x="228600" y="3429000"/>
            <a:ext cx="3200400" cy="342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007011B"/>
          <p:cNvPicPr/>
          <p:nvPr/>
        </p:nvPicPr>
        <p:blipFill>
          <a:blip r:embed="rId2"/>
          <a:stretch/>
        </p:blipFill>
        <p:spPr>
          <a:xfrm>
            <a:off x="4800600" y="3581280"/>
            <a:ext cx="38098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FF755-424C-425D-9190-4524584F4E32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Smoothing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5" name="Picture 2" descr="https://encrypted-tbn1.gstatic.com/images?q=tbn:ANd9GcRwqap9pn4IH9nPg75c98PMt-DxFyBEyp1lsJ-eqWiSmIkt8rncpw"/>
          <p:cNvPicPr/>
          <p:nvPr/>
        </p:nvPicPr>
        <p:blipFill>
          <a:blip r:embed="rId1"/>
          <a:stretch/>
        </p:blipFill>
        <p:spPr>
          <a:xfrm>
            <a:off x="990720" y="2286000"/>
            <a:ext cx="76960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0E453-2B0B-426E-89D0-77E543D2E99E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Edge Enhancement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9" name="Picture 9" descr="MATRIX RESOLUTION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4876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Example of Edge Enhancement, </a:t>
            </a:r>
            <a:r>
              <a:rPr b="1" i="1" lang="en-US" sz="2800" spc="-1" strike="noStrike">
                <a:solidFill>
                  <a:srgbClr val="ffcc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31" name="Picture 3" descr="C:\Documents and Settings\Quinn Carroll\My Documents\DigRadTEXT\SLIDES\29-30A.pct"/>
          <p:cNvPicPr/>
          <p:nvPr/>
        </p:nvPicPr>
        <p:blipFill>
          <a:blip r:embed="rId1"/>
          <a:stretch/>
        </p:blipFill>
        <p:spPr>
          <a:xfrm>
            <a:off x="1066680" y="685800"/>
            <a:ext cx="3314880" cy="4167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C:\Documents and Settings\Quinn Carroll\My Documents\DigRadTEXT\SLIDES\29-30B.pct"/>
          <p:cNvPicPr/>
          <p:nvPr/>
        </p:nvPicPr>
        <p:blipFill>
          <a:blip r:embed="rId2"/>
          <a:stretch/>
        </p:blipFill>
        <p:spPr>
          <a:xfrm>
            <a:off x="5029200" y="762120"/>
            <a:ext cx="3213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Black Masking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5" name="Picture 4" descr="007008A"/>
          <p:cNvPicPr/>
          <p:nvPr/>
        </p:nvPicPr>
        <p:blipFill>
          <a:blip r:embed="rId1"/>
          <a:stretch/>
        </p:blipFill>
        <p:spPr>
          <a:xfrm>
            <a:off x="685800" y="1981080"/>
            <a:ext cx="2895480" cy="4023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007008B"/>
          <p:cNvPicPr/>
          <p:nvPr/>
        </p:nvPicPr>
        <p:blipFill>
          <a:blip r:embed="rId2"/>
          <a:srcRect l="6518" t="0" r="0" b="7318"/>
          <a:stretch/>
        </p:blipFill>
        <p:spPr>
          <a:xfrm>
            <a:off x="5410080" y="1981080"/>
            <a:ext cx="29718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973A8-1523-4555-85E8-3DAEF6AE7C59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Times New Roman"/>
              </a:rPr>
              <a:t>Collimation vs. Shuttering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s results in increased contrast because of the reduction of scatter as fog and reduces the amount of grid cleanup necessary for increased resolution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rough post exposure image manipulation known as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huttering,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a black background can be added around the original collimation edges, virtually eliminating the distracting white or clear areas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1" name="Picture 7" descr="FOOT.bmp"/>
          <p:cNvPicPr/>
          <p:nvPr/>
        </p:nvPicPr>
        <p:blipFill>
          <a:blip r:embed="rId1"/>
          <a:stretch/>
        </p:blipFill>
        <p:spPr>
          <a:xfrm>
            <a:off x="1981080" y="3657600"/>
            <a:ext cx="2540160" cy="2743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FOOT 2.bmp"/>
          <p:cNvPicPr/>
          <p:nvPr/>
        </p:nvPicPr>
        <p:blipFill>
          <a:blip r:embed="rId2"/>
          <a:stretch/>
        </p:blipFill>
        <p:spPr>
          <a:xfrm>
            <a:off x="4876920" y="3657600"/>
            <a:ext cx="243828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22:54:50Z</dcterms:created>
  <dc:creator>Quinn B Carroll</dc:creator>
  <dc:description/>
  <dc:language>en-US</dc:language>
  <cp:lastModifiedBy>PCSUPPORT</cp:lastModifiedBy>
  <dcterms:modified xsi:type="dcterms:W3CDTF">2014-02-03T16:15:23Z</dcterms:modified>
  <cp:revision>18</cp:revision>
  <dc:subject/>
  <dc:title>PowerPoint Slides for</dc:title>
</cp:coreProperties>
</file>