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4077-32CD-4B95-8237-927B89DEF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F6AB-BFB1-4684-9094-1054205DF95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other than standard identification must be added to the im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creen/film radiography, additional information is marked by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and date stic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se penc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anent ma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1B69-567F-4B63-B881-447C79AB6244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itching is used for anatomy or areas of interest too large to fit on one cassett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ultiple images can be “stitched” togethe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metimes, special cassette holders are used and positioned vertically, corresponding to foot to hip or entire spine radiograph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A99D-6D98-4D58-B29B-CFDE8BA7FB5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CR CL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C9DC-4B85-41AA-B7E1-3089C1872004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 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CA08-978C-48ED-A305-F1852EC32BF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IN L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0D80-0E29-47F9-938E-337CD4C3053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 DROP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38E3-98A6-4661-BE0A-65C3A9D3238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7D17-A08E-4B4E-A60A-0A3FCDC73BB4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027C-8295-4ADB-A0EF-BDCE48357E7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THIS CHAPTER TALK ABOUT THE SPEED OF THE DETECT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IS DETERMINED BY HOW EFFICIENTLY THE DETECTOR/DR CASSETTE CONVERTS X-RAY PHOTONS INTO ELECTRONIC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STER THE SPEED, THE LESS PHOTONS ARE NEEDED TO CONVERT, BUT THE LESS RESOLUTION YOU WILL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3C4E-FCA1-4585-B997-5C41C2B4B774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NOT 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8E2A-477A-4A6A-B5EB-BE4A868ECD5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SMOOTHING, MORE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is a reduction of noise and contr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pass filtering is useful for viewing small structures such as fine bone tissue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3A87-FDE0-4F6F-B00D-E5B2791431E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BRING OUT THE OUT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PRODUCES A SHORTER SCALE OF CONTRAST AND MAKES EDGES APPEAR SHAR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EDGE ENHANCEMENT, FEWER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KNOWN AS HIGH PASS FILTER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RESULT IN LOSS OF DETAIL OR INFORMATION – SHOULD ONLY BE USED WHILE VIEWING ( POST PAC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C112-5D43-44BD-918E-BAB33A7DE84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fficient collimation results in unattenuated radiation striking the imaging pla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ing histogram is changed so that it is outside the normal exposure indicator range for the part selec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smallest imaging plate possible and proper collimation, especially on small or thin patients, eliminates this erro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5AF3-DEF8-4CDA-BA2E-E271FEA2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D9CB-20FE-475F-BF0B-E1B013AA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0B2-0C2A-4F17-AC69-95B9CF15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0DD-46D1-44E5-97AF-DB24AFCC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49C6-BA68-452C-BDBD-0C248FAB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F13D-625D-4E78-B2D3-35EBEBBA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9FEE-CE4A-456C-A141-8B8477B0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BEB9-6213-40DF-B80F-753D5669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CDD0-78C5-4AC9-A19D-A5903C53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1161-1D6B-400B-86A7-3B4991C5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F239-3E0D-4852-9413-8CC0010B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B96-3647-4EDC-BD4E-B17A0993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8873-806C-40AC-9C2C-8C321C6E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28B1-3883-434E-94AF-5D1C1895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0626-50BC-4793-9706-48FF657F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BEE8-6BAF-444E-ADA6-2FB5B342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A356-8DD8-45EE-9622-9AD6069E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1C7-F100-4E13-86E4-44A09021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AE6-DB6E-4229-8154-43711689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20B-6DE0-4396-8EAB-B915425D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C9A-CED9-4D34-8C96-C5E18EDC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A5E-E33B-4C72-B0F4-F022E50D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6CB-395F-4E89-9D2F-2DF039E7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6C93-04A6-4516-807A-00E17A80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2BF1-1F7A-4B95-B60E-C7E824B4F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EC0D-991F-4E95-808E-B59C967ABF8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CESS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</a:t>
            </a:r>
            <a:br>
              <a:rPr sz="32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812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PTER 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mage Reversal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Content Placeholder 3" descr="hsg-tubal-spasm.jpg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449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sg1.jpg"/>
          <p:cNvPicPr/>
          <p:nvPr/>
        </p:nvPicPr>
        <p:blipFill>
          <a:blip r:embed="rId2"/>
          <a:srcRect l="0" t="0" r="0" b="13545"/>
          <a:stretch/>
        </p:blipFill>
        <p:spPr>
          <a:xfrm>
            <a:off x="4800600" y="1981080"/>
            <a:ext cx="4006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89F9-473A-46AE-B85C-C115BD9A3255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Annot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overlay the image as bitmap imag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may not transfer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cture archival and communication syst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PAC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of annotation for identification of the patient’s left or right side should never be used as a substitute for technologist’s anatomy mark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4" descr="007010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646E-63F7-40FF-9609-F8C010FFC43A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Stitc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processed in computer programs that nearly seamlessly join the anatom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uter displays one single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cess eliminates the need for large (36-inch) cassettes previously used in film/screen radiograph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007009A"/>
          <p:cNvPicPr/>
          <p:nvPr/>
        </p:nvPicPr>
        <p:blipFill>
          <a:blip r:embed="rId1"/>
          <a:stretch/>
        </p:blipFill>
        <p:spPr>
          <a:xfrm>
            <a:off x="380880" y="41911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7009B"/>
          <p:cNvPicPr/>
          <p:nvPr/>
        </p:nvPicPr>
        <p:blipFill>
          <a:blip r:embed="rId2"/>
          <a:stretch/>
        </p:blipFill>
        <p:spPr>
          <a:xfrm>
            <a:off x="3657600" y="4191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07009C"/>
          <p:cNvPicPr/>
          <p:nvPr/>
        </p:nvPicPr>
        <p:blipFill>
          <a:blip r:embed="rId3"/>
          <a:stretch/>
        </p:blipFill>
        <p:spPr>
          <a:xfrm>
            <a:off x="7086600" y="41911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Quinn Carroll\My Documents\DigRadTEXT\LCDphotos\Fig30-12AA.jpg"/>
          <p:cNvPicPr/>
          <p:nvPr/>
        </p:nvPicPr>
        <p:blipFill>
          <a:blip r:embed="rId1"/>
          <a:stretch/>
        </p:blipFill>
        <p:spPr>
          <a:xfrm>
            <a:off x="838080" y="533520"/>
            <a:ext cx="2462400" cy="57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Quinn Carroll\My Documents\DigRadTEXT\LCDphotos\Fig30-12BB.jpg"/>
          <p:cNvPicPr/>
          <p:nvPr/>
        </p:nvPicPr>
        <p:blipFill>
          <a:blip r:embed="rId2"/>
          <a:stretch/>
        </p:blipFill>
        <p:spPr>
          <a:xfrm>
            <a:off x="3505320" y="533520"/>
            <a:ext cx="2433600" cy="5762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324480" y="533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48520" y="609480"/>
            <a:ext cx="2590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 Scoliosis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age Stitching feature shows seam lines between 3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ternative Algorith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way to adjust the contrast and brightness characteristics of an image is to re-process it under a different pre-set anatomical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ight: A lateral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lumbar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e-processed as 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horacic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hows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mproved visibility of those vertebrae within the lung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C:\Documents and Settings\Quinn Carroll\My Documents\DigRadTEXT\SLIDES\30-04a.pct"/>
          <p:cNvPicPr/>
          <p:nvPr/>
        </p:nvPicPr>
        <p:blipFill>
          <a:blip r:embed="rId1"/>
          <a:stretch/>
        </p:blipFill>
        <p:spPr>
          <a:xfrm>
            <a:off x="5181480" y="1447920"/>
            <a:ext cx="32241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xposure Indicator Error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thing which can lead to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histogram analysis error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ause the exposure indicator to be corrup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aneous exposure information, including sca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osure field recognition err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nexpected material in fi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imation margins not detec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eme underexposure or overexpo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ay in 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1D4B-7D77-402E-BAC8-74FB8C6DF2CE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Artifact_CR_poor_screen_cleanin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8EE9-53C8-4C3F-89BE-DE1E11455077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5" descr="Artifact_bar_code_artefac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9857-46A4-4C3E-AEB9-FA1606CC0D37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Error_equipment_artifact_cr_reader_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B47C-8FE7-4030-B8E4-E14639591911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icture 5" descr="Error_chest_wrong_lu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RT Obj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ociate impact of image processing parameters to the image appearance.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 a procedure or process to minimize histogram analysis and rescaling errors.   (SEE PAGE 58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F6D6-1B95-48AE-A888-F4EA1084A9A3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5" descr="Error_abdomen_cr_drop_o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te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jec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utton on most systems results i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erman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oss of the image, making “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peat”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ard to perform. When prompted to enter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ason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r a reject, it is important to enter an honest answer rather than “other.” Departments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nd ways to mak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ject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le, for several professional and ethical reas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Y ATTENTION TO PAGE 5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mputed radiography image is taken at 66 kVp and 11 mAs with a 12:1 Grid at 60 inches.  The computer tries to fix the image, but the exposure index values indicate underexposure.  A new image needs to be taken, but the patient has been moved and now you as the technologist can only get a 40" SID.  What should the new technique b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PEED.bmp"/>
          <p:cNvPicPr/>
          <p:nvPr/>
        </p:nvPicPr>
        <p:blipFill>
          <a:blip r:embed="rId1"/>
          <a:stretch/>
        </p:blipFill>
        <p:spPr>
          <a:xfrm>
            <a:off x="838080" y="3581280"/>
            <a:ext cx="7543800" cy="28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274C-D6E8-44AC-8DF3-0499C44F2A19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R, most cassettes have the same speed; however, there are special extremity or chest cassettes that produce greater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typically 200 relative spe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8903-91CC-463C-BD67-F8DE3785C5D3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gnific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ther technique is “zoom.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oom allows magnification of the entir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mage can be enlarged enough that only parts of it are visible on the scre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ose parts can be seen through mouse navig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007011A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7011B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D5D0-345F-4E11-B511-8E7FE8B3EBB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5" name="Picture 2" descr="https://encrypted-tbn1.gstatic.com/images?q=tbn:ANd9GcRwqap9pn4IH9nPg75c98PMt-DxFyBEyp1lsJ-eqWiSmIkt8rncpw"/>
          <p:cNvPicPr/>
          <p:nvPr/>
        </p:nvPicPr>
        <p:blipFill>
          <a:blip r:embed="rId1"/>
          <a:stretch/>
        </p:blipFill>
        <p:spPr>
          <a:xfrm>
            <a:off x="990720" y="2286000"/>
            <a:ext cx="7696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3DAD-5C29-44A0-8B6F-E42E21FE0373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dge Enhancemen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MATRIX RESOLUTIO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 of Edge Enhancement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3" descr="C:\Documents and Settings\Quinn Carroll\My Documents\DigRadTEXT\SLIDES\29-30A.pct"/>
          <p:cNvPicPr/>
          <p:nvPr/>
        </p:nvPicPr>
        <p:blipFill>
          <a:blip r:embed="rId1"/>
          <a:stretch/>
        </p:blipFill>
        <p:spPr>
          <a:xfrm>
            <a:off x="1066680" y="685800"/>
            <a:ext cx="3314880" cy="41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Quinn Carroll\My Documents\DigRadTEXT\SLIDES\29-30B.pct"/>
          <p:cNvPicPr/>
          <p:nvPr/>
        </p:nvPicPr>
        <p:blipFill>
          <a:blip r:embed="rId2"/>
          <a:stretch/>
        </p:blipFill>
        <p:spPr>
          <a:xfrm>
            <a:off x="5029200" y="762120"/>
            <a:ext cx="3213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lack Mask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007008A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402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7008B"/>
          <p:cNvPicPr/>
          <p:nvPr/>
        </p:nvPicPr>
        <p:blipFill>
          <a:blip r:embed="rId2"/>
          <a:srcRect l="6518" t="0" r="0" b="7318"/>
          <a:stretch/>
        </p:blipFill>
        <p:spPr>
          <a:xfrm>
            <a:off x="5410080" y="1981080"/>
            <a:ext cx="2971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B4B2-2DC9-40E7-93CE-C30F3E534C9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Collimation vs. Shutter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results in increased contrast because of the reduction of scatter as fog and reduces the amount of grid cleanup necessary for increased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ough post exposure image manipulation known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uttering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black background can be added around the original collimation edges, virtually eliminating the distracting white or clear are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7" descr="FOOT.bmp"/>
          <p:cNvPicPr/>
          <p:nvPr/>
        </p:nvPicPr>
        <p:blipFill>
          <a:blip r:embed="rId1"/>
          <a:stretch/>
        </p:blipFill>
        <p:spPr>
          <a:xfrm>
            <a:off x="1981080" y="3657600"/>
            <a:ext cx="254016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OOT 2.bmp"/>
          <p:cNvPicPr/>
          <p:nvPr/>
        </p:nvPicPr>
        <p:blipFill>
          <a:blip r:embed="rId2"/>
          <a:stretch/>
        </p:blipFill>
        <p:spPr>
          <a:xfrm>
            <a:off x="4876920" y="3657600"/>
            <a:ext cx="2438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54:50Z</dcterms:created>
  <dc:creator>Quinn B Carroll</dc:creator>
  <dc:description/>
  <dc:language>en-US</dc:language>
  <cp:lastModifiedBy>PCSUPPORT</cp:lastModifiedBy>
  <dcterms:modified xsi:type="dcterms:W3CDTF">2014-02-03T16:15:23Z</dcterms:modified>
  <cp:revision>18</cp:revision>
  <dc:subject/>
  <dc:title>PowerPoint Slides for</dc:title>
</cp:coreProperties>
</file>