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A5C-A6EE-4E0B-A154-340965F7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4E06-CDEB-4B36-955B-16266392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B4C3-6DF6-412D-A030-9992FA71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C3AE-5A26-4D68-A8BC-D722426C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DA04-5039-43BD-B42B-A68C235D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D1CC-4999-430D-A12F-6E644D0A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164D-1282-4D44-A7BD-5CFE1EE2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9BD-AE5A-400B-A55B-7581EBFB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9397-9627-44AE-A44A-DB0DAB2F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1612-D430-4373-AB05-1A75EC5B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FC88-F62C-42BE-A74C-E2B5814A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6181-C4D1-4E38-B4E0-DCB7C38A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umblr.com/tagged/reservation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History of Native American Famili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88888"/>
              </a:solidFill>
              <a:latin typeface="Calibri"/>
              <a:ea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and Par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ies were generally small in size due to high rates infant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’s so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hysical punishment used ra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appropriate behaviors ridiculed or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raise and public reward encouraged appropriat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trilineal societies, maternal uncles often had more authority over kids than fathers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worked alongside parents and other adults to learn necessa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24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harp decline in population due to disease and viol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By 1670s only 10% of original population in New England had survi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survivors sold into slavery or sent to other parts of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At least 50 tribes completely wiped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 to re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During 1800s, Native Americans dispossessed of 95% of their terr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servation land often of poor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migrations especially disruptive because systems of subsistence were tailored for particular ecological niche (hunting, farming, tra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520" y="29998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assim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required to attend boarding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 emphasized learning trade or learning to work as domestic servant rather than acade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peaking native language forbid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Hair cut sh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s located far from children’s homes and families; visits impossible or r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Shape 158" descr=""/>
          <p:cNvPicPr/>
          <p:nvPr/>
        </p:nvPicPr>
        <p:blipFill>
          <a:blip r:embed="rId1"/>
          <a:stretch/>
        </p:blipFill>
        <p:spPr>
          <a:xfrm>
            <a:off x="1566720" y="1503360"/>
            <a:ext cx="6218280" cy="14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hape 163" descr=""/>
          <p:cNvPicPr/>
          <p:nvPr/>
        </p:nvPicPr>
        <p:blipFill>
          <a:blip r:embed="rId1"/>
          <a:stretch/>
        </p:blipFill>
        <p:spPr>
          <a:xfrm>
            <a:off x="0" y="0"/>
            <a:ext cx="6667560" cy="4846680"/>
          </a:xfrm>
          <a:prstGeom prst="rect">
            <a:avLst/>
          </a:prstGeom>
          <a:ln w="0">
            <a:noFill/>
          </a:ln>
        </p:spPr>
      </p:pic>
      <p:pic>
        <p:nvPicPr>
          <p:cNvPr id="77" name="Shape 164" descr=""/>
          <p:cNvPicPr/>
          <p:nvPr/>
        </p:nvPicPr>
        <p:blipFill>
          <a:blip r:embed="rId2"/>
          <a:stretch/>
        </p:blipFill>
        <p:spPr>
          <a:xfrm>
            <a:off x="3868560" y="3938760"/>
            <a:ext cx="5275440" cy="2919240"/>
          </a:xfrm>
          <a:prstGeom prst="rect">
            <a:avLst/>
          </a:prstGeom>
          <a:ln w="0">
            <a:noFill/>
          </a:ln>
        </p:spPr>
      </p:pic>
      <p:sp>
        <p:nvSpPr>
          <p:cNvPr id="78" name="Shape 165"/>
          <p:cNvSpPr/>
          <p:nvPr/>
        </p:nvSpPr>
        <p:spPr>
          <a:xfrm>
            <a:off x="0" y="5184720"/>
            <a:ext cx="372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Two photos of the Indian Training School in Forest Grove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Implications for Fam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Parents and extended family had less authority over their children during period when U.S. government controlled education (1802 – 19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, division of land, and assimilation altered family living arran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 some groups, shift to single-family homes undermined traditional kinship system and family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Transition from self-sufficiency to low-wage labor compromised men’s ability to pro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Negatively impacted men’s status and self-concept, particularly in patriline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Increased single-mothe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Native Americans in Pre-Colonial Ti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When English settlers arrived there we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Over 240 cultural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Even more linguistic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Populations were concentrated in 7 geographic areas, each with its own set of environmental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Groups adapted economic systems, styles of housing, and family arrangements to fit these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y relationships impacted all dimensions of social li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Succession to political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Religious pos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Inheritance and property own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Possible marriage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48" name="Shape 95"/>
          <p:cNvSpPr/>
          <p:nvPr/>
        </p:nvSpPr>
        <p:spPr>
          <a:xfrm>
            <a:off x="457200" y="625968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xcludes Hawaiian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Watch the disappearance of tribal lands upon the arrival of Europea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o t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Short Stack"/>
                <a:ea typeface="Short Stack"/>
                <a:hlinkClick r:id="rId1"/>
              </a:rPr>
              <a:t>http://www.tumblr.com/tagged/reservations</a:t>
            </a: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Then click on post by “Harvesthe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84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Eastern Woodlan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Algonquians lived in wigwams housing 1-2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ived in longhouses containing 10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easter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More concentrated,                                          agricultural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Extended family = center                                                  of social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Husbands moved in with                                              wives’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hape 115" descr=""/>
          <p:cNvPicPr/>
          <p:nvPr/>
        </p:nvPicPr>
        <p:blipFill>
          <a:blip r:embed="rId1"/>
          <a:stretch/>
        </p:blipFill>
        <p:spPr>
          <a:xfrm>
            <a:off x="5832360" y="333072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Shape 116"/>
          <p:cNvSpPr/>
          <p:nvPr/>
        </p:nvSpPr>
        <p:spPr>
          <a:xfrm>
            <a:off x="6068880" y="6426360"/>
            <a:ext cx="27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ong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Tribes like Hopi and Zuni lived in matrilineal c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ulti-story dwellings housed several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reat Basin and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densely populate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mall single-family dwellings                                         or adjoining units in                                         multifamil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cases, wives lived                                         with husbands’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hape 123" descr=""/>
          <p:cNvPicPr/>
          <p:nvPr/>
        </p:nvPicPr>
        <p:blipFill>
          <a:blip r:embed="rId1"/>
          <a:stretch/>
        </p:blipFill>
        <p:spPr>
          <a:xfrm>
            <a:off x="6461280" y="4043520"/>
            <a:ext cx="2682720" cy="2814480"/>
          </a:xfrm>
          <a:prstGeom prst="rect">
            <a:avLst/>
          </a:prstGeom>
          <a:ln w="0">
            <a:noFill/>
          </a:ln>
        </p:spPr>
      </p:pic>
      <p:sp>
        <p:nvSpPr>
          <p:cNvPr id="61" name="Shape 124"/>
          <p:cNvSpPr/>
          <p:nvPr/>
        </p:nvSpPr>
        <p:spPr>
          <a:xfrm>
            <a:off x="3754440" y="6311880"/>
            <a:ext cx="2505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ueblo dwe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hape 130" descr=""/>
          <p:cNvPicPr/>
          <p:nvPr/>
        </p:nvPicPr>
        <p:blipFill>
          <a:blip r:embed="rId1"/>
          <a:stretch/>
        </p:blipFill>
        <p:spPr>
          <a:xfrm>
            <a:off x="457200" y="1138320"/>
            <a:ext cx="3753000" cy="2501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38320"/>
            <a:ext cx="914400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Pacif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 dwellings 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with spouses &amp;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times also husband’s sister’s 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Arct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ingle or two-family dwellings with spouse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Organized into large villages that supported selves by fishing and hunting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hape 132"/>
          <p:cNvSpPr/>
          <p:nvPr/>
        </p:nvSpPr>
        <p:spPr>
          <a:xfrm flipH="1">
            <a:off x="763560" y="3639960"/>
            <a:ext cx="238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Marriage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68560" y="919080"/>
            <a:ext cx="5104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Women married early – between 12 and 15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en usually 15-20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some tribes, marriages were arranged, in others, youth selected own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marriages monogamous; some tribes allowed husbands to take more than one wif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tribes’ custom for widow to marry deceased husband’s broth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Other tribes’ custom for widower to marry deceased wife’s sis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groups, marriages were easily dissolved; initiated by either spo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39" descr=""/>
          <p:cNvPicPr/>
          <p:nvPr/>
        </p:nvPicPr>
        <p:blipFill>
          <a:blip r:embed="rId1"/>
          <a:stretch/>
        </p:blipFill>
        <p:spPr>
          <a:xfrm>
            <a:off x="457200" y="1411200"/>
            <a:ext cx="3411360" cy="450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dney M. Woolf</dc:creator>
  <dc:description/>
  <dc:language>en-US</dc:language>
  <cp:lastModifiedBy>Sydney M. Woolf</cp:lastModifiedBy>
  <dcterms:modified xsi:type="dcterms:W3CDTF">2014-02-24T20:29:19Z</dcterms:modified>
  <cp:revision>1</cp:revision>
  <dc:subject/>
  <dc:title>History of Native American Families in the U.S.</dc:title>
</cp:coreProperties>
</file>